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3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3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3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51A0-DECD-4BBD-9FE1-4847DCF36B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C482-4C76-42A3-BF3E-C85945C06880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F756-580B-42E4-A965-7AA7238B641D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CF18-B864-46D0-8089-4A7E3D81D37C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BA8C-0BDE-4F7D-8ED0-CF7881930FF9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12AA-D55F-4AEF-87AE-215AA7BEF428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BE5D-6F21-4B56-9966-19916A521D65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8F11-D5DF-4256-97C3-F2D9E52F46A0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Espace réservé du numéro de diapositive 3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446B-A03C-4B06-990C-44BAA55347DC}" type="slidenum">
              <a:rPr b="0" lang="fr-FR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206-E0E7-46D8-B22F-57122BD8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D80-AE75-45EC-8D74-5AADC58B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73DD9-57A9-43B9-BBB8-7DC9CEF8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CBEEC-AB3B-4E03-8CE8-C72B1351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94430-DF47-4DF3-8D70-25C7E661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24BDF-93F4-4C1A-9A31-DA5B0787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37833-B964-453C-87B6-51670EB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256AC-B0B1-498D-BCF0-79FBAC3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678A4-39DB-41A7-BD6F-3FE06917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5CEA7-E4E1-4B25-BDD2-37B15570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CC3AA-9428-41EC-AD12-A4CA6F8F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9ACAB-DBE1-4473-BEBD-43745A98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845-D14A-4C61-BFDA-1ECFB386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C7F19-33A6-4355-A04E-FE63206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EEDC0-0F16-4910-9B18-4FBFCD4B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B0606-E8E5-4187-BFF9-0426B6C6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2DBA7-83BD-429D-918D-DEAF59F6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32EBB-D9DF-4FE6-B124-7E5DBC26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2E5C7-BC7A-4E7D-A136-4A6600CF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94F27-A2A5-4232-8DF6-1A16A43C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D5856-6A26-40AB-B638-EB70A254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F2BB3-8805-4A64-992C-F26F0FD7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55699-64B0-492F-93B3-E10B1CAD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FE7-6C39-4AA8-B26C-289E8481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0621F-BCD4-484F-AC80-E1F5835E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6D6C3-830F-43DD-870D-2DB0CEED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00BF9-1265-4AAC-8A28-C9AF5E86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E7B42-A9C1-4264-8ED5-7F1C7DAE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24CAB-E7D1-479F-8EFA-F046A6A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95584-C86C-48E6-A5BA-1EB398A6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D9C68-CB5F-4016-9E22-9215A945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14D01-72D7-4633-AD10-535A1FD7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61A8C-B168-47E8-8F81-0B290624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3E385-B464-4BE8-85F5-F4545195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9174-FA0B-49C7-AA65-D56CCCF6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E3FB5-F146-45FB-A44B-C444CCD5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A8459-128E-4030-B241-C76A8D8F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A004B-256A-4CC1-8815-EDEE1A59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30455-9128-4B36-9027-6C0336ED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0B230-2D80-4980-8DAB-9F3511FF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88079-8525-446D-8B2E-1B4CE178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BABF5-0326-43EB-88B5-48FB3949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AAA94-E540-479D-A8D3-1AFA8353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83313-7EB3-42B0-B571-74CC0697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58A5F-30C3-4B32-973D-93CCB11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C8D8-BD94-4823-A2F0-DFD09A07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E5AFA-AF02-4688-9D46-F2FBB0C3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02FF9-1219-4882-A366-627C6443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5D2B2-C426-46B2-A923-F8CF1371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36164-4E7E-4B01-960A-1CE04E60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C3C72-66E4-4825-8487-D73EFF9F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C2F0-47B8-465F-B852-35677FE1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BB1D-894B-4434-A069-2816A0D4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2FC4-C604-4CCE-A8E4-9B6769AE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120B-4DC7-4643-B55F-DDA3B2FF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DC3B-DD27-4C43-A47D-29DC6DB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79A-478D-4936-81D1-6FA65BFF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7E08-124E-47D6-A614-151F2B1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1928-74DE-4B8D-9930-6BEC9C57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0E65-CAFC-4F42-93A0-68620B67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2599-014F-4A03-92DC-0EF51319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99F9-6230-4B7C-864D-0B690D51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6DBE-51CD-46F6-80A7-21D8365B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6FE2-7338-4E59-B165-52F06C6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F02A-CF84-4032-AB2A-F41171D4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CB079-DDDA-43D4-973D-B6CE57ED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7B8E-78B4-4626-8A4A-0A8B4855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FE2-E256-4891-AEF6-88BAB706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61C50-032E-4872-BCA7-3EE72A7B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14BF-DD57-49B5-BF3C-3E1958EF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B567-D0BA-4172-8EFF-8929EE0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A348-85C4-4F63-B051-47497AD1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2EEA7-274E-4EC7-BB6F-E5F28DE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D210-6925-4C3A-9BDF-A3D0B0CF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D557-04ED-4583-8199-A82697B4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C9A6-C73C-48BD-9A21-B23A9FCB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17661-5BFB-4410-B998-1583EF68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C64A-D4F2-4C85-85D3-6BB7199C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FA0-4825-49C6-90BF-3ED2988B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0809-07B4-4D5E-8AB8-340C9FD1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9D48-4E63-4EAE-9B94-3A1D557B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4324-1DA5-4045-9455-AD0C89A3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C0F32-EC31-4206-A194-01DD102E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75B0-B15C-4555-A2DB-3E9C6E4D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BEEEC-92BE-4384-BA8E-AEF937C1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06000-AD0F-46EA-AF10-2B7F0139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ECEE-9E1C-4632-8967-323E6348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95CA-65B0-4C0F-ABC9-22DB3885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4235-CD50-40EC-A6ED-EF905FE6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DAD-F7A7-4C5D-AE4C-9E8A1C49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AA3D6-460A-4B33-87AF-9AF6B25C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83215-286F-4BD8-BA1D-E4F253D6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679B4-FC37-4DC1-AE45-D255DAD6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B128D-58BC-4B18-AAA8-6C5051B1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BDEA2-A548-4C51-9819-DCCA36A6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E2597-D258-4592-B906-C591344B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324EB-891C-4CA4-9A44-673F4DCA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DCE4B-4D59-438E-8E21-8FBA0EB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4049E-B417-4FD1-BB14-F21EA5FA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AB62B-CC20-4423-9346-766ACF4D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50B-6311-4700-98F8-0857EBFD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E04B1-4C69-4848-9173-DE9780AD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08257-6587-4A7F-BBFB-399A4955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4645-7549-4135-98D5-C67F6C8C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6507C-7CFD-4A70-BDF8-FC20C268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E08D2-8951-47DA-9C79-131DC959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FFA8-4B62-4899-B55E-3576B16B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BDC29-1267-411C-912C-6071DBF3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44747-2A03-4D85-B413-1343DF2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A8784-4690-4004-B6DD-6059D625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CDC97-C83D-48F6-A9EB-0673C7E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100-11CB-4AB5-ACC0-356B996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A16C1-E663-43C3-B9FF-09378ABF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88E5F-1C94-4BAF-8293-9A8C8A9D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605F-4878-4C8A-ACFF-CBFBA18B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0B8CF-D5D5-41DD-96FF-6A844C7A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A4B64-0D7E-4FFF-AC0D-99728AA8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3582D-05C3-48C3-B126-575EF17C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0B28-EA4E-4F00-9C0D-1575C7C0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78754-6025-4E94-BE92-DF517DAF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87022-A597-4734-9EB4-DF36E6C2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F6F18-A939-4D08-A130-5B0F1602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400-90D8-40A0-95FD-94C6EDA3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81780-6EC0-46CA-8AAF-8427CE9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FC0BA-9171-4E96-BA24-595282B5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D6F68-27FA-48D1-A459-98E0F271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415B-7927-423C-BFC8-50DA5576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3B466-197A-48E3-9B7B-079DB4DB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475F7-A66B-4792-AD3F-C28623E9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68494-6036-424A-BAD2-B149604C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E6E5D-2F9A-464F-B763-BB9EB030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1CEBB-1A0B-4F20-BA4C-D69C72C5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63CFE-A30A-45EF-831F-706DB63E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D1B-65A9-49F1-AE7C-27C1CA1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5857B-D76B-4726-96A1-96064229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28886-83A6-416B-A1B4-85EC3CBE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78856-77AD-4EEB-908D-192F310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44B49-BBF7-4FD7-891B-88BA448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D7BA6-8290-4884-A507-24CE9940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11FFC-6DE9-4BAA-A8EC-F4D17966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B431F-650C-4D1D-8FEB-578AA233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27A4F-2430-48B1-B579-DC63EF6A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9E0B5-984A-41BE-A0AC-B1CA73B6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59FD3-A4E5-4AA8-8150-F540D61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 :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Joël Raimondi &amp; Isabelle F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B32-2ED9-48BF-B08E-D6F476A8DFBB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B0EF-3FEA-4DC5-9389-8B1E0B57157D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8A06-00A6-48DA-AF3F-6E1891E45068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F40-9D2C-469A-BD61-3C580E18314A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: Joël Raimondi &amp; Isabelle F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EF78-52E7-429D-81E5-28473328B390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72000" y="6248520"/>
            <a:ext cx="41162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: Joël Raimondi &amp; Isabelle F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DC85-1BAA-4718-B1AB-71A3DBC5E7F3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: Joël Raimondi - Isabelle F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952-88CE-4BCB-899D-F1DE73E1555F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B614-05E0-4C6C-94A8-C61783103E89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341-6BFB-4941-87AC-39C02421110A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A918-0CB8-451C-9E9D-E15569C97C86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E6DA-9746-4A13-87E4-64A43D042860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500720" y="6248520"/>
            <a:ext cx="4187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IDèS-Conseil, Joël Raimondi - Isabelle Farges, consul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34F-91F5-42F5-A305-249E36A91762}" type="slidenum"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0"/>
          <p:cNvSpPr/>
          <p:nvPr/>
        </p:nvSpPr>
        <p:spPr>
          <a:xfrm>
            <a:off x="2843280" y="6165720"/>
            <a:ext cx="55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B97A-50CE-4A53-8EC4-2B7DE8277AE5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68440" y="1273320"/>
            <a:ext cx="8063640" cy="13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00720" y="2927520"/>
            <a:ext cx="4535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6" name="Picture 29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3240000" cy="15462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31"/>
          <p:cNvSpPr/>
          <p:nvPr/>
        </p:nvSpPr>
        <p:spPr>
          <a:xfrm>
            <a:off x="36720" y="606348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3366"/>
                </a:solidFill>
                <a:latin typeface="Arial"/>
              </a:rPr>
              <a:t>FIDèS-</a:t>
            </a:r>
            <a:r>
              <a:rPr b="1" i="1" lang="fr-FR" sz="1000" spc="-1" strike="noStrike">
                <a:solidFill>
                  <a:srgbClr val="003366"/>
                </a:solidFill>
                <a:latin typeface="Arial"/>
              </a:rPr>
              <a:t>Conseils</a:t>
            </a:r>
            <a:r>
              <a:rPr b="1" lang="fr-FR" sz="1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8" name="Picture 37" descr=""/>
          <p:cNvPicPr/>
          <p:nvPr/>
        </p:nvPicPr>
        <p:blipFill>
          <a:blip r:embed="rId2"/>
          <a:stretch/>
        </p:blipFill>
        <p:spPr>
          <a:xfrm>
            <a:off x="179280" y="5013360"/>
            <a:ext cx="857520" cy="990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8" descr=""/>
          <p:cNvPicPr/>
          <p:nvPr/>
        </p:nvPicPr>
        <p:blipFill>
          <a:blip r:embed="rId3"/>
          <a:stretch/>
        </p:blipFill>
        <p:spPr>
          <a:xfrm>
            <a:off x="1187280" y="5013360"/>
            <a:ext cx="476280" cy="1295280"/>
          </a:xfrm>
          <a:prstGeom prst="rect">
            <a:avLst/>
          </a:prstGeom>
          <a:ln w="0">
            <a:noFill/>
          </a:ln>
        </p:spPr>
      </p:pic>
      <p:sp>
        <p:nvSpPr>
          <p:cNvPr id="590" name="AutoShape 2"/>
          <p:cNvSpPr/>
          <p:nvPr/>
        </p:nvSpPr>
        <p:spPr>
          <a:xfrm>
            <a:off x="4572000" y="189000"/>
            <a:ext cx="4429080" cy="4608360"/>
          </a:xfrm>
          <a:custGeom>
            <a:avLst/>
            <a:gdLst>
              <a:gd name="textAreaLeft" fmla="*/ 231480 w 4429080"/>
              <a:gd name="textAreaRight" fmla="*/ 4197600 w 4429080"/>
              <a:gd name="textAreaTop" fmla="*/ 231480 h 4608360"/>
              <a:gd name="textAreaBottom" fmla="*/ 4376880 h 4608360"/>
            </a:gdLst>
            <a:ahLst/>
            <a:rect l="textAreaLeft" t="textAreaTop" r="textAreaRight" b="textAreaBottom"/>
            <a:pathLst>
              <a:path w="21600" h="22474">
                <a:moveTo>
                  <a:pt x="3858" y="0"/>
                </a:moveTo>
                <a:arcTo wR="3858" hR="3858" stAng="16200000" swAng="-5400000"/>
                <a:lnTo>
                  <a:pt x="0" y="18616"/>
                </a:lnTo>
                <a:arcTo wR="3858" hR="3858" stAng="10800000" swAng="-5400000"/>
                <a:lnTo>
                  <a:pt x="17742" y="22474"/>
                </a:lnTo>
                <a:arcTo wR="3858" hR="3858" stAng="5400000" swAng="-5400000"/>
                <a:lnTo>
                  <a:pt x="21600" y="3858"/>
                </a:lnTo>
                <a:arcTo wR="3858" hR="385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Restitution de la démarche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Projet de Territoir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3200" spc="-1" strike="noStrike">
                <a:solidFill>
                  <a:srgbClr val="006666"/>
                </a:solidFill>
                <a:latin typeface="Arial"/>
              </a:rPr>
              <a:t>Ecole de musique Intercommunale  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Arial"/>
              </a:rPr>
              <a:t>Anduze 3 juillet 2010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7B0B-7A0A-45A5-BE11-94D088580757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28000" y="837000"/>
            <a:ext cx="8070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66"/>
                </a:solidFill>
                <a:latin typeface="Arial"/>
              </a:rPr>
              <a:t>10 orientations stratégiques dont</a:t>
            </a:r>
            <a:br>
              <a:rPr sz="3400"/>
            </a:br>
            <a:r>
              <a:rPr b="1" lang="fr-FR" sz="3400" spc="-1" strike="noStrike">
                <a:solidFill>
                  <a:srgbClr val="006666"/>
                </a:solidFill>
                <a:latin typeface="Arial"/>
              </a:rPr>
              <a:t>5 transversale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1044720" y="6094440"/>
            <a:ext cx="7848360" cy="5032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Entretenir une dynamique de participation solidaire des citoyen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042920" y="2421000"/>
            <a:ext cx="7850160" cy="7920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Garantir un urbanisme respectueux du cadre de vie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ainsi que des logements économiquement accessibl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1042920" y="3429000"/>
            <a:ext cx="7850160" cy="431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Intégrer l’environnement au cœur de toutes les démarch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1042920" y="5084640"/>
            <a:ext cx="7850160" cy="79236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Développer une vision territoriale ouverte à la coopération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pour les activités d’intérêt commun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1042920" y="4078440"/>
            <a:ext cx="7850160" cy="718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</a:rPr>
              <a:t>Intégrer la communication, l’information et la formation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</a:rPr>
              <a:t>au cœur de toutes les démarche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3 scénarii  travaillés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838080" y="2361960"/>
            <a:ext cx="80200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cénario 1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 : Renforcement des compétences  de la 2C2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cénario 2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 : Rapprochements formels ou non avec les territoires limitrophes  «logique de Vallée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"/>
              </a:rPr>
              <a:t>Scénario 3 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: fusion avec le Grand Alès (rej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Espace réservé du numéro de diapositive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B347-3080-4053-8B57-78B0BAA932AB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stitution du 10 juin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53FD-2965-482D-892D-7BB869B12E3A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828000" y="837000"/>
            <a:ext cx="80704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66"/>
                </a:solidFill>
                <a:latin typeface="Arial"/>
              </a:rPr>
              <a:t>10 orientations stratégiques dont</a:t>
            </a:r>
            <a:br>
              <a:rPr sz="3400"/>
            </a:br>
            <a:r>
              <a:rPr b="1" lang="fr-FR" sz="3400" spc="-1" strike="noStrike">
                <a:solidFill>
                  <a:srgbClr val="006666"/>
                </a:solidFill>
                <a:latin typeface="Arial"/>
              </a:rPr>
              <a:t>5 thématique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1044720" y="5084640"/>
            <a:ext cx="7775280" cy="72072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Associer la volonté politique et la dynamique citoyenne pour garantir, construire et consolider la cohésion social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1042920" y="3284640"/>
            <a:ext cx="7777080" cy="718920"/>
          </a:xfrm>
          <a:prstGeom prst="rect">
            <a:avLst/>
          </a:prstGeom>
          <a:solidFill>
            <a:srgbClr val="ff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Développer une politique culturelle cohérente et ambitieuse sur le territoir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1042920" y="4149720"/>
            <a:ext cx="7777080" cy="79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Reconquérir au niveau local des activités économiques par une valorisation de l’existant et un soutien à la diversificatio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1042920" y="2421000"/>
            <a:ext cx="7777080" cy="74448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Partager le développement d’une agriculture portée par une volonté citoyenne et politiqu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1042920" y="5877000"/>
            <a:ext cx="777708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 Narrow"/>
                <a:ea typeface="SimSun"/>
              </a:rPr>
              <a:t>Développer un tourisme ancré sur des valeurs pérennes, valorisant et préservant  l’environnement naturel et humai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2292480" y="3885120"/>
            <a:ext cx="5926680" cy="232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à toutes les personnes,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élus, techniciens, responsables     de services et d’organisations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t citoyens impliqués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ans cette démarche cooper’active</a:t>
            </a:r>
            <a:br>
              <a:rPr sz="2800"/>
            </a:b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sabelle Farg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amien Christiany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&amp; Joël Raimondi  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8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F501-76E4-4EFD-9CD5-F87575A76618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9" name="Picture 9" descr=""/>
          <p:cNvPicPr/>
          <p:nvPr/>
        </p:nvPicPr>
        <p:blipFill>
          <a:blip r:embed="rId1"/>
          <a:srcRect l="6261" t="4659" r="6222" b="6823"/>
          <a:stretch/>
        </p:blipFill>
        <p:spPr>
          <a:xfrm>
            <a:off x="833400" y="3938760"/>
            <a:ext cx="1074600" cy="29192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0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1368720" cy="14400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REMERCIEMENTS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692" name="Image 1" descr="arbre-de-competences"/>
          <p:cNvPicPr/>
          <p:nvPr/>
        </p:nvPicPr>
        <p:blipFill>
          <a:blip r:embed="rId3"/>
          <a:stretch/>
        </p:blipFill>
        <p:spPr>
          <a:xfrm>
            <a:off x="7213680" y="4508640"/>
            <a:ext cx="1930320" cy="2199960"/>
          </a:xfrm>
          <a:prstGeom prst="rect">
            <a:avLst/>
          </a:prstGeom>
          <a:ln w="0">
            <a:noFill/>
          </a:ln>
        </p:spPr>
      </p:pic>
      <p:sp>
        <p:nvSpPr>
          <p:cNvPr id="693" name="ZoneTexte 14"/>
          <p:cNvSpPr/>
          <p:nvPr/>
        </p:nvSpPr>
        <p:spPr>
          <a:xfrm>
            <a:off x="7056360" y="6381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Bernard MT Condensed"/>
              </a:rPr>
              <a:t>www.fidesconseils.eu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rme libre 1"/>
          <p:cNvSpPr/>
          <p:nvPr/>
        </p:nvSpPr>
        <p:spPr>
          <a:xfrm>
            <a:off x="1000080" y="1484280"/>
            <a:ext cx="7172280" cy="4383000"/>
          </a:xfrm>
          <a:custGeom>
            <a:avLst/>
            <a:gdLst/>
            <a:ahLst/>
            <a:rect l="l" t="t" r="r" b="b"/>
            <a:pathLst>
              <a:path fill="none" w="20500" h="12500">
                <a:moveTo>
                  <a:pt x="0" y="12500"/>
                </a:moveTo>
                <a:lnTo>
                  <a:pt x="20500" y="0"/>
                </a:lnTo>
              </a:path>
            </a:pathLst>
          </a:custGeom>
          <a:noFill/>
          <a:ln w="7200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2400" rIns="32400" tIns="32400" bIns="3240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Forme libre 2"/>
          <p:cNvSpPr/>
          <p:nvPr/>
        </p:nvSpPr>
        <p:spPr>
          <a:xfrm flipV="1">
            <a:off x="928800" y="5929200"/>
            <a:ext cx="7786440" cy="46080"/>
          </a:xfrm>
          <a:custGeom>
            <a:avLst/>
            <a:gdLst/>
            <a:ahLst/>
            <a:rect l="l" t="t" r="r" b="b"/>
            <a:pathLst>
              <a:path fill="none" w="24000" h="46037">
                <a:moveTo>
                  <a:pt x="0" y="0"/>
                </a:moveTo>
                <a:lnTo>
                  <a:pt x="24000" y="0"/>
                </a:lnTo>
              </a:path>
            </a:pathLst>
          </a:custGeom>
          <a:noFill/>
          <a:ln w="7200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2400" rIns="32400" tIns="13680" bIns="1368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Forme libre 3"/>
          <p:cNvSpPr/>
          <p:nvPr/>
        </p:nvSpPr>
        <p:spPr>
          <a:xfrm flipH="1">
            <a:off x="928080" y="490680"/>
            <a:ext cx="50760" cy="5438520"/>
          </a:xfrm>
          <a:custGeom>
            <a:avLst/>
            <a:gdLst/>
            <a:ahLst/>
            <a:rect l="l" t="t" r="r" b="b"/>
            <a:pathLst>
              <a:path fill="none" w="50800" h="15000">
                <a:moveTo>
                  <a:pt x="0" y="15000"/>
                </a:moveTo>
                <a:lnTo>
                  <a:pt x="0" y="0"/>
                </a:lnTo>
              </a:path>
            </a:pathLst>
          </a:custGeom>
          <a:noFill/>
          <a:ln w="72000">
            <a:solidFill>
              <a:srgbClr val="8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32400" rIns="32400" tIns="32400" bIns="3240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Forme libre 4"/>
          <p:cNvSpPr/>
          <p:nvPr/>
        </p:nvSpPr>
        <p:spPr>
          <a:xfrm rot="565200">
            <a:off x="1744200" y="-212760"/>
            <a:ext cx="3859200" cy="6800760"/>
          </a:xfrm>
          <a:custGeom>
            <a:avLst/>
            <a:gdLst/>
            <a:ahLst/>
            <a:rect l="l" t="t" r="r" b="b"/>
            <a:pathLst>
              <a:path w="7291" h="13475">
                <a:moveTo>
                  <a:pt x="0" y="12221"/>
                </a:moveTo>
                <a:cubicBezTo>
                  <a:pt x="6841" y="13475"/>
                  <a:pt x="7062" y="0"/>
                  <a:pt x="7291" y="418"/>
                </a:cubicBezTo>
              </a:path>
            </a:pathLst>
          </a:custGeom>
          <a:noFill/>
          <a:ln w="7200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2400" rIns="32400" tIns="32400" bIns="32400" anchor="ctr" anchorCtr="1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ZoneTexte 5"/>
          <p:cNvSpPr/>
          <p:nvPr/>
        </p:nvSpPr>
        <p:spPr>
          <a:xfrm>
            <a:off x="1071720" y="5357880"/>
            <a:ext cx="128556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3366"/>
                </a:solidFill>
                <a:latin typeface="Arial Rounded MT Bold"/>
                <a:ea typeface="Lucida Sans Unicode"/>
              </a:rPr>
              <a:t>1945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ZoneTexte 6"/>
          <p:cNvSpPr/>
          <p:nvPr/>
        </p:nvSpPr>
        <p:spPr>
          <a:xfrm>
            <a:off x="4427640" y="5516640"/>
            <a:ext cx="1306440" cy="10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3366"/>
                </a:solidFill>
                <a:latin typeface="Arial Rounded MT Bold"/>
                <a:ea typeface="Lucida Sans Unicode"/>
              </a:rPr>
              <a:t>19751980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7286760" y="5357880"/>
            <a:ext cx="1306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3366"/>
                </a:solidFill>
                <a:latin typeface="Arial Rounded MT Bold"/>
                <a:ea typeface="Lucida Sans Unicode"/>
              </a:rPr>
              <a:t>2010</a:t>
            </a:r>
            <a:endParaRPr b="1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Forme libre 8"/>
          <p:cNvSpPr/>
          <p:nvPr/>
        </p:nvSpPr>
        <p:spPr>
          <a:xfrm>
            <a:off x="4143240" y="3357720"/>
            <a:ext cx="1428840" cy="48888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3366"/>
                </a:solidFill>
                <a:latin typeface="Arial"/>
                <a:ea typeface="Lucida Sans Unicode"/>
              </a:rPr>
              <a:t>CHOC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ZoneTexte 11"/>
          <p:cNvSpPr/>
          <p:nvPr/>
        </p:nvSpPr>
        <p:spPr>
          <a:xfrm>
            <a:off x="6300720" y="620640"/>
            <a:ext cx="6541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300" spc="-1" strike="noStrike">
                <a:solidFill>
                  <a:srgbClr val="993366"/>
                </a:solidFill>
                <a:latin typeface="Arial"/>
                <a:ea typeface="Lucida Sans Unicode"/>
              </a:rPr>
              <a:t>?</a:t>
            </a:r>
            <a:endParaRPr b="1" lang="en-US" sz="7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Forme libre 12"/>
          <p:cNvSpPr/>
          <p:nvPr/>
        </p:nvSpPr>
        <p:spPr>
          <a:xfrm>
            <a:off x="1547640" y="2852640"/>
            <a:ext cx="2232360" cy="738360"/>
          </a:xfrm>
          <a:prstGeom prst="pie">
            <a:avLst/>
          </a:prstGeom>
          <a:solidFill>
            <a:srgbClr val="ccffff"/>
          </a:solidFill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6200" bIns="162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30 glorieus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Recettes </a:t>
            </a:r>
            <a:r>
              <a:rPr b="1" lang="fr-FR" sz="18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&gt;</a:t>
            </a:r>
            <a:r>
              <a:rPr b="1" lang="fr-FR" sz="18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 Dépenses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ZoneTexte 13"/>
          <p:cNvSpPr/>
          <p:nvPr/>
        </p:nvSpPr>
        <p:spPr>
          <a:xfrm>
            <a:off x="611280" y="981000"/>
            <a:ext cx="53290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80"/>
                </a:solidFill>
                <a:latin typeface="Arial Narrow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</a:rPr>
              <a:t>∑ </a:t>
            </a:r>
            <a:r>
              <a:rPr b="1" lang="fr-FR" sz="2400" spc="-1" strike="noStrike">
                <a:solidFill>
                  <a:srgbClr val="000080"/>
                </a:solidFill>
                <a:latin typeface="Arial Narrow"/>
              </a:rPr>
              <a:t>Financements Publics augmentent                      </a:t>
            </a:r>
            <a:r>
              <a:rPr b="1" lang="fr-FR" sz="2000" spc="-1" strike="noStrike">
                <a:solidFill>
                  <a:srgbClr val="000080"/>
                </a:solidFill>
                <a:latin typeface="Arial Narrow"/>
              </a:rPr>
              <a:t>mais « </a:t>
            </a:r>
            <a:r>
              <a:rPr b="1" lang="fr-FR" sz="2800" spc="-1" strike="noStrike">
                <a:solidFill>
                  <a:srgbClr val="000080"/>
                </a:solidFill>
                <a:latin typeface="Arial Narrow"/>
              </a:rPr>
              <a:t>la Dette»  explose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Forme libre 18"/>
          <p:cNvSpPr/>
          <p:nvPr/>
        </p:nvSpPr>
        <p:spPr>
          <a:xfrm>
            <a:off x="6084720" y="3645000"/>
            <a:ext cx="2232360" cy="738000"/>
          </a:xfrm>
          <a:prstGeom prst="pie">
            <a:avLst/>
          </a:prstGeom>
          <a:solidFill>
            <a:srgbClr val="ff6600">
              <a:alpha val="14000"/>
            </a:srgbClr>
          </a:solidFill>
          <a:ln w="3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" rIns="16200" tIns="16200" bIns="162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30 ans de défici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Dépenses </a:t>
            </a:r>
            <a:r>
              <a:rPr b="1" lang="fr-FR" sz="1800" spc="-1" strike="noStrike">
                <a:solidFill>
                  <a:srgbClr val="ff0000"/>
                </a:solidFill>
                <a:latin typeface="Arial Black"/>
                <a:ea typeface="Lucida Sans Unicode"/>
              </a:rPr>
              <a:t>&gt;</a:t>
            </a:r>
            <a:r>
              <a:rPr b="1" lang="fr-FR" sz="1800" spc="-1" strike="noStrike">
                <a:solidFill>
                  <a:srgbClr val="003366"/>
                </a:solidFill>
                <a:latin typeface="Garamond"/>
                <a:ea typeface="Lucida Sans Unicode"/>
              </a:rPr>
              <a:t> Recette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ZoneTexte 16"/>
          <p:cNvSpPr/>
          <p:nvPr/>
        </p:nvSpPr>
        <p:spPr>
          <a:xfrm>
            <a:off x="7093080" y="476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Besoins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Priorités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http://www.alternatives-economiques.fr/pics_bdd/article_options_visuel/A286017A.gif"/>
          <p:cNvPicPr/>
          <p:nvPr/>
        </p:nvPicPr>
        <p:blipFill>
          <a:blip r:embed="rId1"/>
          <a:stretch/>
        </p:blipFill>
        <p:spPr>
          <a:xfrm>
            <a:off x="755640" y="2276640"/>
            <a:ext cx="8300880" cy="4581360"/>
          </a:xfrm>
          <a:prstGeom prst="rect">
            <a:avLst/>
          </a:prstGeom>
          <a:ln w="0">
            <a:noFill/>
          </a:ln>
        </p:spPr>
      </p:pic>
      <p:sp>
        <p:nvSpPr>
          <p:cNvPr id="606" name="Espace réservé du numéro de diapositive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6DA5-B063-499B-95CC-8424D37B08FB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827640" y="62136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66"/>
                </a:solidFill>
                <a:latin typeface="Arial Narrow"/>
              </a:rPr>
              <a:t>Dette publique 1 650 Milliards € = 84% du PIB 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ZoneTexte 8"/>
          <p:cNvSpPr/>
          <p:nvPr/>
        </p:nvSpPr>
        <p:spPr>
          <a:xfrm>
            <a:off x="1258920" y="2349360"/>
            <a:ext cx="3817800" cy="1679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Faillite en 2013 ?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Injonctions OCDE, FMI, UE…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 Narrow"/>
              </a:rPr>
              <a:t>Pour réduire la dépense publiqu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66"/>
                </a:solidFill>
                <a:latin typeface="Arial Narrow"/>
              </a:rPr>
              <a:t>Retraite, Santé, Culture, Education…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http://www.mathcurve.com/courbes2d/gauss/gauss%202.gif"/>
          <p:cNvPicPr/>
          <p:nvPr/>
        </p:nvPicPr>
        <p:blipFill>
          <a:blip r:embed="rId1"/>
          <a:stretch/>
        </p:blipFill>
        <p:spPr>
          <a:xfrm>
            <a:off x="665280" y="2276640"/>
            <a:ext cx="8478720" cy="4581360"/>
          </a:xfrm>
          <a:prstGeom prst="rect">
            <a:avLst/>
          </a:prstGeom>
          <a:ln w="0">
            <a:noFill/>
          </a:ln>
        </p:spPr>
      </p:pic>
      <p:sp>
        <p:nvSpPr>
          <p:cNvPr id="611" name="ZoneTexte 4"/>
          <p:cNvSpPr/>
          <p:nvPr/>
        </p:nvSpPr>
        <p:spPr>
          <a:xfrm>
            <a:off x="1042920" y="6165720"/>
            <a:ext cx="7786800" cy="102348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EXCLUS:     25%           </a:t>
            </a:r>
            <a:r>
              <a:rPr b="1" lang="fr-FR" sz="3200" spc="-1" strike="noStrike">
                <a:solidFill>
                  <a:srgbClr val="004d4d"/>
                </a:solidFill>
                <a:latin typeface="Arial"/>
              </a:rPr>
              <a:t> IN       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HORS»:     25%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4d4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Connecteur droit 6"/>
          <p:cNvSpPr/>
          <p:nvPr/>
        </p:nvSpPr>
        <p:spPr>
          <a:xfrm>
            <a:off x="3924360" y="6093000"/>
            <a:ext cx="0" cy="765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Connecteur droit 8"/>
          <p:cNvSpPr/>
          <p:nvPr/>
        </p:nvSpPr>
        <p:spPr>
          <a:xfrm>
            <a:off x="5867280" y="6165720"/>
            <a:ext cx="0" cy="692280"/>
          </a:xfrm>
          <a:prstGeom prst="line">
            <a:avLst/>
          </a:prstGeom>
          <a:ln w="414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ZoneTexte 11"/>
          <p:cNvSpPr/>
          <p:nvPr/>
        </p:nvSpPr>
        <p:spPr>
          <a:xfrm>
            <a:off x="971640" y="83664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Arial"/>
              </a:rPr>
              <a:t>Quid des 64,09% qui ne votent pas?  </a:t>
            </a:r>
            <a:r>
              <a:rPr b="1" lang="fr-FR" sz="2600" spc="-1" strike="noStrike">
                <a:solidFill>
                  <a:srgbClr val="003366"/>
                </a:solidFill>
                <a:latin typeface="Arial"/>
              </a:rPr>
              <a:t>Exigence démocratique &amp; Nouvelle Gouvernance  </a:t>
            </a:r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ZoneTexte 15"/>
          <p:cNvSpPr/>
          <p:nvPr/>
        </p:nvSpPr>
        <p:spPr>
          <a:xfrm>
            <a:off x="6227640" y="3068640"/>
            <a:ext cx="273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Créativité  </a:t>
            </a:r>
            <a:r>
              <a:rPr b="1" i="1" lang="fr-FR" sz="2400" spc="-1" strike="noStrike">
                <a:solidFill>
                  <a:srgbClr val="003366"/>
                </a:solidFill>
                <a:latin typeface="Arial"/>
              </a:rPr>
              <a:t>Culturell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CHOISIE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ZoneTexte 16"/>
          <p:cNvSpPr/>
          <p:nvPr/>
        </p:nvSpPr>
        <p:spPr>
          <a:xfrm>
            <a:off x="3995640" y="4365720"/>
            <a:ext cx="1800360" cy="94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Arial"/>
              </a:rPr>
              <a:t>35,91%</a:t>
            </a: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ZoneTexte 15"/>
          <p:cNvSpPr/>
          <p:nvPr/>
        </p:nvSpPr>
        <p:spPr>
          <a:xfrm>
            <a:off x="684360" y="3068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Précarité </a:t>
            </a:r>
            <a:r>
              <a:rPr b="1" lang="fr-FR" sz="2400" spc="-1" strike="noStrike">
                <a:solidFill>
                  <a:srgbClr val="003366"/>
                </a:solidFill>
                <a:latin typeface="Arial Narrow"/>
              </a:rPr>
              <a:t>(15 Millions)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SUBIE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19" name="Connecteur droit avec flèche 11"/>
          <p:cNvCxnSpPr/>
          <p:nvPr/>
        </p:nvCxnSpPr>
        <p:spPr>
          <a:xfrm flipV="1">
            <a:off x="2770560" y="6236640"/>
            <a:ext cx="288360" cy="43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0" name="Connecteur droit avec flèche 15"/>
          <p:cNvCxnSpPr/>
          <p:nvPr/>
        </p:nvCxnSpPr>
        <p:spPr>
          <a:xfrm flipV="1">
            <a:off x="7524720" y="6236640"/>
            <a:ext cx="288000" cy="43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1" name="Connecteur droit avec flèche 11"/>
          <p:cNvCxnSpPr/>
          <p:nvPr/>
        </p:nvCxnSpPr>
        <p:spPr>
          <a:xfrm>
            <a:off x="5292720" y="6381360"/>
            <a:ext cx="216720" cy="477000"/>
          </a:xfrm>
          <a:prstGeom prst="straightConnector1">
            <a:avLst/>
          </a:prstGeom>
          <a:ln w="38160">
            <a:solidFill>
              <a:srgbClr val="004d4d"/>
            </a:solidFill>
            <a:miter/>
            <a:tailEnd len="med" type="triangle" w="med"/>
          </a:ln>
        </p:spPr>
      </p:cxnSp>
      <p:cxnSp>
        <p:nvCxnSpPr>
          <p:cNvPr id="622" name="Connecteur droit avec flèche 11"/>
          <p:cNvCxnSpPr/>
          <p:nvPr/>
        </p:nvCxnSpPr>
        <p:spPr>
          <a:xfrm>
            <a:off x="5507640" y="6237000"/>
            <a:ext cx="216360" cy="477000"/>
          </a:xfrm>
          <a:prstGeom prst="straightConnector1">
            <a:avLst/>
          </a:prstGeom>
          <a:ln w="38160">
            <a:solidFill>
              <a:srgbClr val="004d4d"/>
            </a:solidFill>
            <a:miter/>
            <a:tailEnd len="med" type="triangle" w="med"/>
          </a:ln>
        </p:spPr>
      </p:cxnSp>
      <p:cxnSp>
        <p:nvCxnSpPr>
          <p:cNvPr id="623" name="Connecteur droit avec flèche 11"/>
          <p:cNvCxnSpPr/>
          <p:nvPr/>
        </p:nvCxnSpPr>
        <p:spPr>
          <a:xfrm flipH="1">
            <a:off x="4355640" y="6308640"/>
            <a:ext cx="145440" cy="550080"/>
          </a:xfrm>
          <a:prstGeom prst="straightConnector1">
            <a:avLst/>
          </a:prstGeom>
          <a:ln w="38160">
            <a:solidFill>
              <a:srgbClr val="004d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92DB-A226-4CBF-B524-8DA702328DF8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41680" y="722880"/>
            <a:ext cx="8222040" cy="110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Une double mission «coopér’active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8080" y="2204640"/>
            <a:ext cx="8020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nstruction d’un projet de territoire partagé par le plus grand nomb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Quelles interactivités avec les territoires voisi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900000" y="5084640"/>
            <a:ext cx="799308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Narrow"/>
                <a:ea typeface="Arial Unicode MS"/>
              </a:rPr>
              <a:t>Quel territoire pour quel projet dans les 15 ans à venir 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322C-0B94-4E1D-8084-7B3E9DDCA8DB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862920" y="837000"/>
            <a:ext cx="82087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Démarche générale : coopér’active</a:t>
            </a:r>
            <a:br>
              <a:rPr sz="3600"/>
            </a:b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vers une gouvernance sociocratiqu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31" name="Group 9"/>
          <p:cNvGrpSpPr/>
          <p:nvPr/>
        </p:nvGrpSpPr>
        <p:grpSpPr>
          <a:xfrm>
            <a:off x="2484360" y="2421000"/>
            <a:ext cx="3455640" cy="3744360"/>
            <a:chOff x="2484360" y="2421000"/>
            <a:chExt cx="3455640" cy="3744360"/>
          </a:xfrm>
        </p:grpSpPr>
        <p:sp>
          <p:nvSpPr>
            <p:cNvPr id="632" name="Gear"/>
            <p:cNvSpPr/>
            <p:nvPr/>
          </p:nvSpPr>
          <p:spPr>
            <a:xfrm>
              <a:off x="4400280" y="2421000"/>
              <a:ext cx="1539720" cy="1716840"/>
            </a:xfrm>
            <a:custGeom>
              <a:avLst/>
              <a:gdLst>
                <a:gd name="textAreaLeft" fmla="*/ 311760 w 1539720"/>
                <a:gd name="textAreaRight" fmla="*/ 1271880 w 1539720"/>
                <a:gd name="textAreaTop" fmla="*/ 314280 h 1716840"/>
                <a:gd name="textAreaBottom" fmla="*/ 1402560 h 171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AutoShape 11"/>
            <p:cNvSpPr/>
            <p:nvPr/>
          </p:nvSpPr>
          <p:spPr>
            <a:xfrm>
              <a:off x="2484360" y="3128400"/>
              <a:ext cx="1841040" cy="2052360"/>
            </a:xfrm>
            <a:custGeom>
              <a:avLst/>
              <a:gdLst>
                <a:gd name="textAreaLeft" fmla="*/ 372240 w 1841040"/>
                <a:gd name="textAreaRight" fmla="*/ 1520280 w 1841040"/>
                <a:gd name="textAreaTop" fmla="*/ 376560 h 2052360"/>
                <a:gd name="textAreaBottom" fmla="*/ 1675800 h 20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AutoShape 12"/>
            <p:cNvSpPr/>
            <p:nvPr/>
          </p:nvSpPr>
          <p:spPr>
            <a:xfrm>
              <a:off x="3678480" y="3885480"/>
              <a:ext cx="2046240" cy="2279880"/>
            </a:xfrm>
            <a:custGeom>
              <a:avLst/>
              <a:gdLst>
                <a:gd name="textAreaLeft" fmla="*/ 414720 w 2046240"/>
                <a:gd name="textAreaRight" fmla="*/ 1690560 w 2046240"/>
                <a:gd name="textAreaTop" fmla="*/ 417600 h 2279880"/>
                <a:gd name="textAreaBottom" fmla="*/ 1860840 h 227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35" name="AutoShape 13"/>
          <p:cNvSpPr/>
          <p:nvPr/>
        </p:nvSpPr>
        <p:spPr>
          <a:xfrm>
            <a:off x="971640" y="2492280"/>
            <a:ext cx="2376360" cy="936720"/>
          </a:xfrm>
          <a:prstGeom prst="wedgeRoundRectCallout">
            <a:avLst>
              <a:gd name="adj1" fmla="val 52870"/>
              <a:gd name="adj2" fmla="val 82032"/>
              <a:gd name="adj3" fmla="val 16667"/>
            </a:avLst>
          </a:prstGeom>
          <a:solidFill>
            <a:srgbClr val="ffffff"/>
          </a:solidFill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3 Séminaires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Elus communautaires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AutoShape 14"/>
          <p:cNvSpPr/>
          <p:nvPr/>
        </p:nvSpPr>
        <p:spPr>
          <a:xfrm>
            <a:off x="900000" y="5589720"/>
            <a:ext cx="2808360" cy="1008000"/>
          </a:xfrm>
          <a:prstGeom prst="wedgeRoundRectCallout">
            <a:avLst>
              <a:gd name="adj1" fmla="val 70861"/>
              <a:gd name="adj2" fmla="val -62282"/>
              <a:gd name="adj3" fmla="val 16667"/>
            </a:avLst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4 assemblées de territoire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Arial Narrow"/>
                <a:ea typeface="SimSun"/>
              </a:rPr>
              <a:t>Citoyens et socioprofessionnels 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force de proposi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AutoShape 15"/>
          <p:cNvSpPr/>
          <p:nvPr/>
        </p:nvSpPr>
        <p:spPr>
          <a:xfrm>
            <a:off x="6012000" y="4437000"/>
            <a:ext cx="2881080" cy="792360"/>
          </a:xfrm>
          <a:prstGeom prst="wedgeRoundRectCallout">
            <a:avLst>
              <a:gd name="adj1" fmla="val -62398"/>
              <a:gd name="adj2" fmla="val -164430"/>
              <a:gd name="adj3" fmla="val 16667"/>
            </a:avLst>
          </a:prstGeom>
          <a:solidFill>
            <a:srgbClr val="ffffff"/>
          </a:solidFill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Comité Technique de Suivi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Elus et Citoyens</a:t>
            </a:r>
            <a:r>
              <a:rPr b="1" lang="fr-FR" sz="1800" spc="-1" strike="noStrike">
                <a:solidFill>
                  <a:srgbClr val="003366"/>
                </a:solidFill>
                <a:latin typeface="Arial Narrow"/>
                <a:ea typeface="SimSun"/>
              </a:rPr>
              <a:t> 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6372360" y="2421000"/>
            <a:ext cx="2627280" cy="785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Comité de Pilotage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Interface 2C2A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Espace réservé du numéro de diapositive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5646-4E2F-4A7C-A9F1-EB6B3A3874A4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Une démarche en 3 ét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97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REGARD : état des lieux partagé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HORIZON : vision à 15 a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      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CHEMIN : plan d’action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3366"/>
                </a:solidFill>
                <a:latin typeface="Arial Narrow"/>
                <a:ea typeface="Arial Unicode MS"/>
              </a:rPr>
              <a:t>Prioriser ce qui nous rapproche (dissensus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3366"/>
                </a:solidFill>
                <a:latin typeface="Arial Narrow"/>
                <a:ea typeface="Arial Unicode MS"/>
              </a:rPr>
              <a:t>Construire nos désaccord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3366"/>
                </a:solidFill>
                <a:latin typeface="Arial Narrow"/>
                <a:ea typeface="Arial Unicode MS"/>
              </a:rPr>
              <a:t>Gouvernance par consentement  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Lune 40"/>
          <p:cNvGrpSpPr/>
          <p:nvPr/>
        </p:nvGrpSpPr>
        <p:grpSpPr>
          <a:xfrm>
            <a:off x="1681200" y="4220640"/>
            <a:ext cx="7463160" cy="5942880"/>
            <a:chOff x="1681200" y="4220640"/>
            <a:chExt cx="7463160" cy="5942880"/>
          </a:xfrm>
        </p:grpSpPr>
        <p:pic>
          <p:nvPicPr>
            <p:cNvPr id="645" name="Lune 40" descr=""/>
            <p:cNvPicPr/>
            <p:nvPr/>
          </p:nvPicPr>
          <p:blipFill>
            <a:blip r:embed="rId1"/>
            <a:stretch/>
          </p:blipFill>
          <p:spPr>
            <a:xfrm rot="9403200">
              <a:off x="2135160" y="5367240"/>
              <a:ext cx="6554520" cy="36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4"/>
            <p:cNvSpPr/>
            <p:nvPr/>
          </p:nvSpPr>
          <p:spPr>
            <a:xfrm rot="5512800">
              <a:off x="5291640" y="4406760"/>
              <a:ext cx="723960" cy="36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Un territoire attractif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8" name="Espace réservé du numéro de diapositive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2035-0CC5-41C2-8AB0-02E8FE90517F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Arc 2"/>
          <p:cNvSpPr/>
          <p:nvPr/>
        </p:nvSpPr>
        <p:spPr>
          <a:xfrm flipH="1" rot="10146600">
            <a:off x="3389040" y="4160880"/>
            <a:ext cx="1773000" cy="1371600"/>
          </a:xfrm>
          <a:custGeom>
            <a:avLst/>
            <a:gdLst>
              <a:gd name="textAreaLeft" fmla="*/ -360 w 1773000"/>
              <a:gd name="textAreaRight" fmla="*/ 1773000 w 17730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fill="none" w="25421" h="21600">
                <a:moveTo>
                  <a:pt x="-1" y="340"/>
                </a:moveTo>
                <a:cubicBezTo>
                  <a:pt x="1261" y="114"/>
                  <a:pt x="2539" y="-1"/>
                  <a:pt x="3821" y="0"/>
                </a:cubicBezTo>
                <a:cubicBezTo>
                  <a:pt x="15750" y="0"/>
                  <a:pt x="25421" y="9670"/>
                  <a:pt x="25421" y="21600"/>
                </a:cubicBezTo>
              </a:path>
              <a:path stroke="0" w="25421" h="21600">
                <a:moveTo>
                  <a:pt x="-1" y="340"/>
                </a:moveTo>
                <a:cubicBezTo>
                  <a:pt x="1261" y="114"/>
                  <a:pt x="2539" y="-1"/>
                  <a:pt x="3821" y="0"/>
                </a:cubicBezTo>
                <a:cubicBezTo>
                  <a:pt x="15750" y="0"/>
                  <a:pt x="25421" y="9670"/>
                  <a:pt x="25421" y="21600"/>
                </a:cubicBezTo>
                <a:lnTo>
                  <a:pt x="3821" y="21600"/>
                </a:lnTo>
                <a:lnTo>
                  <a:pt x="-1" y="340"/>
                </a:lnTo>
                <a:close/>
              </a:path>
            </a:pathLst>
          </a:custGeom>
          <a:noFill/>
          <a:ln w="130320">
            <a:solidFill>
              <a:srgbClr val="e36c0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Arc 3"/>
          <p:cNvSpPr/>
          <p:nvPr/>
        </p:nvSpPr>
        <p:spPr>
          <a:xfrm flipH="1" rot="16497000">
            <a:off x="4974840" y="4010400"/>
            <a:ext cx="1494000" cy="1457280"/>
          </a:xfrm>
          <a:custGeom>
            <a:avLst/>
            <a:gdLst>
              <a:gd name="textAreaLeft" fmla="*/ 360 w 1494000"/>
              <a:gd name="textAreaRight" fmla="*/ 1494720 w 149400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fill="none" w="25421" h="21600">
                <a:moveTo>
                  <a:pt x="-1" y="340"/>
                </a:moveTo>
                <a:cubicBezTo>
                  <a:pt x="1261" y="114"/>
                  <a:pt x="2539" y="-1"/>
                  <a:pt x="3821" y="0"/>
                </a:cubicBezTo>
                <a:cubicBezTo>
                  <a:pt x="15750" y="0"/>
                  <a:pt x="25421" y="9670"/>
                  <a:pt x="25421" y="21600"/>
                </a:cubicBezTo>
              </a:path>
              <a:path stroke="0" w="25421" h="21600">
                <a:moveTo>
                  <a:pt x="-1" y="340"/>
                </a:moveTo>
                <a:cubicBezTo>
                  <a:pt x="1261" y="114"/>
                  <a:pt x="2539" y="-1"/>
                  <a:pt x="3821" y="0"/>
                </a:cubicBezTo>
                <a:cubicBezTo>
                  <a:pt x="15750" y="0"/>
                  <a:pt x="25421" y="9670"/>
                  <a:pt x="25421" y="21600"/>
                </a:cubicBezTo>
                <a:lnTo>
                  <a:pt x="3821" y="21600"/>
                </a:lnTo>
                <a:lnTo>
                  <a:pt x="-1" y="340"/>
                </a:lnTo>
                <a:close/>
              </a:path>
            </a:pathLst>
          </a:custGeom>
          <a:noFill/>
          <a:ln w="136440">
            <a:solidFill>
              <a:srgbClr val="62242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5580000" y="3860640"/>
            <a:ext cx="20876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 Narrow"/>
              </a:rPr>
              <a:t>Provenc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Arial Narrow"/>
              </a:rPr>
              <a:t>  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6516720" y="4653000"/>
            <a:ext cx="23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Marseill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Nice - Gên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 Narrow"/>
              </a:rPr>
              <a:t>ITALI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653" name="AutoShape 6"/>
          <p:cNvCxnSpPr/>
          <p:nvPr/>
        </p:nvCxnSpPr>
        <p:spPr>
          <a:xfrm flipH="1">
            <a:off x="5074920" y="2925720"/>
            <a:ext cx="2160" cy="3240720"/>
          </a:xfrm>
          <a:prstGeom prst="straightConnector1">
            <a:avLst/>
          </a:prstGeom>
          <a:ln w="231840">
            <a:solidFill>
              <a:srgbClr val="8db3e2"/>
            </a:solidFill>
            <a:miter/>
            <a:headEnd len="med" type="stealth" w="med"/>
            <a:tailEnd len="med" type="triangle" w="med"/>
          </a:ln>
        </p:spPr>
      </p:cxnSp>
      <p:sp>
        <p:nvSpPr>
          <p:cNvPr id="654" name="Text Box 7"/>
          <p:cNvSpPr/>
          <p:nvPr/>
        </p:nvSpPr>
        <p:spPr>
          <a:xfrm>
            <a:off x="4284720" y="2349360"/>
            <a:ext cx="158256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4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Calibri"/>
              </a:rPr>
              <a:t>LYON…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Oval 9"/>
          <p:cNvSpPr/>
          <p:nvPr/>
        </p:nvSpPr>
        <p:spPr>
          <a:xfrm>
            <a:off x="2411280" y="3573360"/>
            <a:ext cx="2160720" cy="1584360"/>
          </a:xfrm>
          <a:prstGeom prst="ellipse">
            <a:avLst/>
          </a:prstGeom>
          <a:solidFill>
            <a:srgbClr val="c2d6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Text Box 10"/>
          <p:cNvSpPr/>
          <p:nvPr/>
        </p:nvSpPr>
        <p:spPr>
          <a:xfrm>
            <a:off x="2700360" y="3716280"/>
            <a:ext cx="158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66"/>
                </a:solidFill>
                <a:latin typeface="Arial Narrow"/>
              </a:rPr>
              <a:t>Porte des Cévenn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3366"/>
                </a:solidFill>
                <a:latin typeface="Arial Narrow"/>
              </a:rPr>
              <a:t>Piémont Cévenol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288000" algn="ctr">
              <a:lnSpc>
                <a:spcPct val="100000"/>
              </a:lnSpc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ZoneTexte 31"/>
          <p:cNvSpPr/>
          <p:nvPr/>
        </p:nvSpPr>
        <p:spPr>
          <a:xfrm>
            <a:off x="826920" y="2565360"/>
            <a:ext cx="34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10 000 habitants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Arial"/>
              </a:rPr>
              <a:t>1 500 000 visiteurs/a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1403280" y="5300640"/>
            <a:ext cx="3024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Nîmes Montpellier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       </a:t>
            </a: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Toulous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 Narrow"/>
              </a:rPr>
              <a:t>Perpignan – Barcelone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 Narrow"/>
              </a:rPr>
              <a:t>  </a:t>
            </a:r>
            <a:r>
              <a:rPr b="0" lang="fr-FR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fr-FR" sz="2800" spc="-1" strike="noStrike">
                <a:solidFill>
                  <a:srgbClr val="ff6600"/>
                </a:solidFill>
                <a:latin typeface="Arial Narrow"/>
              </a:rPr>
              <a:t>ESPAGN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1043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1 grand objectif  adossé</a:t>
            </a:r>
            <a:br>
              <a:rPr sz="3600"/>
            </a:b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au slogan de la 2c2a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1" name="Espace réservé du numéro de diapositive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2438-3034-4645-93F3-9548BF89F03B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62" name="Picture 2" descr="graphisme L"/>
          <p:cNvPicPr/>
          <p:nvPr/>
        </p:nvPicPr>
        <p:blipFill>
          <a:blip r:embed="rId1"/>
          <a:stretch/>
        </p:blipFill>
        <p:spPr>
          <a:xfrm>
            <a:off x="1042920" y="4343400"/>
            <a:ext cx="7942320" cy="1494000"/>
          </a:xfrm>
          <a:prstGeom prst="rect">
            <a:avLst/>
          </a:prstGeom>
          <a:ln w="0">
            <a:noFill/>
          </a:ln>
        </p:spPr>
      </p:pic>
      <p:grpSp>
        <p:nvGrpSpPr>
          <p:cNvPr id="663" name="Text Box 4"/>
          <p:cNvGrpSpPr/>
          <p:nvPr/>
        </p:nvGrpSpPr>
        <p:grpSpPr>
          <a:xfrm>
            <a:off x="971640" y="2492280"/>
            <a:ext cx="8020080" cy="1584000"/>
            <a:chOff x="971640" y="2492280"/>
            <a:chExt cx="8020080" cy="1584000"/>
          </a:xfrm>
        </p:grpSpPr>
        <p:pic>
          <p:nvPicPr>
            <p:cNvPr id="664" name="Text Box 4" descr=""/>
            <p:cNvPicPr/>
            <p:nvPr/>
          </p:nvPicPr>
          <p:blipFill>
            <a:blip r:embed="rId2"/>
            <a:stretch/>
          </p:blipFill>
          <p:spPr>
            <a:xfrm>
              <a:off x="971640" y="2492280"/>
              <a:ext cx="8020080" cy="15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6"/>
            <p:cNvSpPr/>
            <p:nvPr/>
          </p:nvSpPr>
          <p:spPr>
            <a:xfrm>
              <a:off x="999360" y="2551320"/>
              <a:ext cx="7965720" cy="14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003366"/>
                  </a:solidFill>
                  <a:latin typeface="Arial Narrow"/>
                  <a:ea typeface="SimSun"/>
                </a:rPr>
                <a:t>CONSOLIDER UN TERRITOIRE RURAL ET CITOYEN </a:t>
              </a:r>
              <a:endParaRPr b="1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003366"/>
                  </a:solidFill>
                  <a:latin typeface="Arial Narrow"/>
                  <a:ea typeface="SimSun"/>
                </a:rPr>
                <a:t>POUR RELEVER LES DEFIS ENVIRONNEMENTAUX </a:t>
              </a:r>
              <a:endParaRPr b="1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003366"/>
                  </a:solidFill>
                  <a:latin typeface="Arial Narrow"/>
                  <a:ea typeface="SimSun"/>
                </a:rPr>
                <a:t>ET SOCIO-ECONOMIQUES </a:t>
              </a:r>
              <a:endParaRPr b="1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66" name="Rectangle 10"/>
          <p:cNvSpPr/>
          <p:nvPr/>
        </p:nvSpPr>
        <p:spPr>
          <a:xfrm rot="16200000">
            <a:off x="-2943000" y="3268800"/>
            <a:ext cx="64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FIDèS-Conseil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 : Joël Raimondi &amp; </a:t>
            </a:r>
            <a:r>
              <a:rPr b="1" lang="fr-FR" sz="1400" spc="-1" strike="noStrike">
                <a:solidFill>
                  <a:srgbClr val="003366"/>
                </a:solidFill>
                <a:latin typeface="Arial"/>
              </a:rPr>
              <a:t>Isabelle Farges</a:t>
            </a:r>
            <a:r>
              <a:rPr b="0" lang="fr-FR" sz="1400" spc="-1" strike="noStrike">
                <a:solidFill>
                  <a:srgbClr val="003366"/>
                </a:solidFill>
                <a:latin typeface="Arial"/>
              </a:rPr>
              <a:t>, consultante 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Présentation du 3 juillet 2010 ; communauté communes autour d’Anduze</a:t>
            </a: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6:08:25Z</dcterms:created>
  <dc:creator>I. Farges</dc:creator>
  <dc:description/>
  <dc:language>en-US</dc:language>
  <cp:lastModifiedBy>Joel Raimondi</cp:lastModifiedBy>
  <dcterms:modified xsi:type="dcterms:W3CDTF">2015-12-08T09:03:05Z</dcterms:modified>
  <cp:revision>198</cp:revision>
  <dc:subject/>
  <dc:title>Présentation PowerPoint</dc:title>
</cp:coreProperties>
</file>