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36F-2CCC-4BB4-86E8-FF2E6B400F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7AA2-C699-4D5A-BEA5-D1A13B13B0F9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7DD7-D84E-4EAD-A8CA-F50578C72E83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41A4-A907-4116-B0E9-B7366883F87F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5B74-D47F-4238-9FE7-6998CE7E7AF9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3549-0EA8-4E82-B46D-E1834C271D8B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40D-112E-441B-A8A4-DB5C85A2C26D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3B75-F60F-4D52-A3F1-BA0AF9CCA671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Espace réservé du numéro de diapositive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4D5-9456-4378-85EA-A57676253A09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BF4-E184-46E2-AFA0-5CA29079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B7D-79FE-45D5-A451-84F5D05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D5764-2F27-4C3A-87DE-2E33D967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8D71E-4A58-4CB0-853A-27DC6865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F2F15-8F6D-4406-8A2A-C48C1F35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B24C1-3716-4BF3-8588-9D14337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60C39-08B8-480E-9C89-6C8E840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68B33-01F6-4C27-B908-624261A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ADF04-56CB-4985-9A60-3A4A2051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3A08F-B429-4EC5-9383-09D4D44C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A527-4D4B-40B5-8BA7-C3D3DED4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12595-705A-4C6D-AF31-34D74657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873-4CE3-41C9-8E0C-DB9F652A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2A9D3-02AD-4D5C-86AF-DCDB07C8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21782-0C7A-44BD-98C0-C38B9340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618E7-1046-4D75-9C8B-A148D617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7D36B-FCDE-48FA-AB6C-55F38BC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03D40-C803-4DE9-9DCF-E4A5C5C5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7845A-AE09-4368-887F-DC66B1B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7C714-D613-489D-AED0-F39055D3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1C528-7E78-4E9A-88E3-E514F7A0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BB552-06F3-404D-ABA7-84B3BAAE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445DF-C52F-40BB-A1D6-B5399488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B80-44DB-4A29-8721-819C3B94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B87B4-7910-4FFD-B50F-9BE9DEA5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DF23C-E206-44C4-9E43-8B8669C4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73D6-089C-4860-A6A9-940FFBF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D849-93A9-4FE1-BE41-AE69946E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46246-367B-423E-8FAD-0D140A09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535E5-0555-4714-AB88-412554A0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2E7AA-2247-4269-A5FE-DEB5AC14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8C328-DC94-4906-A164-B07C9F1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431E4-CACA-4970-997B-AD764A0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56299-7294-4459-B2C1-651DBC5B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67EA-8C1E-40EF-B9CE-98D9C815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3D4BB-3B9C-434D-BF61-083BCDF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2E33F-C68E-4E49-95F8-54F45BFE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E7E0F-0A14-47D0-8101-C08B3598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C9B1F-FF2C-4B40-A44A-E2E0D146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A7F92-62E7-4B88-8BA3-96BB446D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43FA3-CAAF-4767-A58F-F685DA2D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7ECB5-DC6A-411C-B7CF-4B708449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736B4-F4FD-4FA0-9543-E8C0145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9D3D2-BD5D-41CC-B1D4-A40A9DD1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6B148-2810-49E5-B709-B99BA7C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D843-E804-471B-BB84-3C41E5FF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77E72-989A-4FBE-BB4F-5E68BA50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6CE08-6760-43E1-92E7-8F33D0F2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95C43-974D-4FD4-AAC9-82316339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93499-A2E6-43DE-9C99-AD5B4FA8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1B9D4-7B37-487A-9A08-7DE91690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C312-5690-4063-B6AE-AD805B1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8FD0-8CD8-4359-8A48-568DBEB3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F47-F449-4B5D-8F73-D617B25D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B09F-55E2-42A1-97E0-C02D0CE7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072F-D3DE-4717-AEE7-E81B9B7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22A-F0B7-4C14-9DD7-8C200C7E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8270-EA63-4D4E-9150-7B577354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CEBA-AD53-49CB-8FFF-66605BF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9BC5-E7A3-413B-82C5-C9B87A55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9E64-5223-412D-AFAC-2CD490C1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3046-029C-43E6-AFA6-B9A2F8FA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3237-BDDD-4571-8D2C-DBAAED15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0615-3049-4600-BC0A-F336445D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B597-D581-4B24-AAA5-0EF75AAF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3910-B0EA-42FB-8D92-5B5B062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74D0-8F7B-419A-B303-83F60BE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E12-BC24-4853-91A3-A69BE7A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72BA-9F6E-402D-AAAD-ACAFB699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068E-1DA9-47B6-BC0E-B6FAEA7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D7D1-D80A-49FC-9E61-87C101E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A893-6A58-484F-A3E5-9BEE5D3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CDC4-8BD5-493E-A00E-A5083534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C1DF-FFDE-4FC5-9142-BB9D8161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5FC1-F7F0-4B97-B144-5140B43A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1835-520A-4941-9E4C-D7E4DDC0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61CE-D448-46EE-93F1-6072AF2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0ED8-D583-493D-BEF5-9842C70E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B03-DBCA-4FF6-853C-A597BB5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186C-F211-4768-8172-9B199EEC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2719-D917-4970-8F52-C4F0AD51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D4E0-8751-499A-BDB2-809522E4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82B4-18C4-4D11-A30A-9129C77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682C-59C8-4BEE-84C5-64B446F2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71E4-4AAE-4070-A7C1-A60BC9D5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9949-D9C8-4D93-8841-1FC488CC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8DF98-1580-4FFF-93B6-FBC79682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D0E64-156F-4C96-A1E0-88533A9D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1E926-A78A-490F-A1E8-602C1F37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918-1FA2-4F7E-9466-0FB0249E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DD29-EE19-42E7-A578-1DB2783B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0E087-20B9-4015-992F-0FDD715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8176-842D-4557-96D6-8372FDA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26A7-6E7E-4D9B-B351-209C30B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6041-0135-4828-9285-9B330288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365BB-A93D-41AC-98ED-9751BA39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25BB-688A-4312-8A41-D624250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5FB6-DD16-4017-A556-FB284AA5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77E6-B4A2-498F-9211-5713C17B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62A6-8F69-4DBD-9790-E1156661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6AE-5692-4F22-8A94-AC25950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F2523-B2C1-4257-9837-3D496C74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8DB9-B092-4643-926E-8D59C328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F17E-680D-4B29-B3F7-0417609E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886ED-6C5E-44E7-B2A3-5A9BD329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43B6B-C448-478F-B20D-B7B3ED6B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D4E9-78BD-43EC-BFAE-3A20D021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06D8-75F2-4205-8E4B-2B3A0FDA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EF06-69DE-43FF-AD03-A452282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3363-D752-48B5-8628-9EE37CC6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5F8B-9394-4D1D-8FAA-229840D0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9A4-85DE-4B12-AF56-FE1111E7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A3D04-DDA6-4243-AF1D-40592EF1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DFE7-C600-4B18-8FFB-32B5FAAF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9042-78FD-49CE-901E-FC4DC1CD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32AAE-2B6E-44F2-8C9E-C79E78F2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5E77D-C410-4BD3-BE77-01F3128A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108E-8B7A-4A5A-BA5E-23EAFE20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51E3A-F1EB-403B-9D1F-874523A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07CB-C6A4-4311-B5D4-5AB4C781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C536A-375C-4A6E-A6F4-CB023E8B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22663-AC5D-40DF-BDF5-AD7880C3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203-E841-4155-8857-B349AAA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7F5A-C7ED-4D7E-9E96-EF10CB4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1AAC5-0AAD-4F4B-8664-94A4F35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5D105-B068-4837-9A09-330A2FAE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5DE6A-12EE-4DB5-8BED-452A978D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4D09-0723-449F-A4EA-79259313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40649-AEDE-4ECF-9070-86645AFE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9690-C07B-4216-8CE8-61AED2B4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18DB7-6F1D-4A41-9C1F-AD25157E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205BB-D1EE-49BD-B9E8-7C042301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70F9B-9574-4695-ADBB-BFF46678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86D-E4C2-458E-B953-7C986E5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CD59C-E67B-4345-8F3E-2A2E57C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BD4CD-611F-4312-AB6C-ECD5BED8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558DE-E13F-427A-B610-EB03F6ED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DBD6D-76D8-4928-B250-0CC6DBED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1D86B-658D-472F-924F-12371A41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4A7DB-2C97-4CEC-9035-A01135FE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4896-D5BC-4DD9-A4A1-46CC6EC9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9A6B2-BF63-47E5-885E-E75C54A1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822A5-E176-435D-BB25-F91C9C8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F31F2-0427-4F73-BE2E-F9B3DFFD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 :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Joël Raimondi &amp;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09E-1760-484D-B77C-1BC8E9BA1664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CBDC-2885-491A-9D89-FF747D3A09B3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69B7-6533-4030-99E4-A77773DFC51C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1720-E00A-4267-AF1A-ACF00351586A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: Joël Raimondi &amp;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555F-2A8B-4D09-9B38-5B580995FC3C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72000" y="6248520"/>
            <a:ext cx="4116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: Joël Raimondi &amp;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B75-8802-4E05-8139-14EF85DD35EA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Joël Raimondi -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2F3-F968-46F2-AE07-50F5D7B5EE7A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E98-1FFD-43BE-8D98-1BEF5CFC2A09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264-1418-4F8E-8743-653F9414F26B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CADD-1309-424D-8B45-AF2B18E2C1B8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FFE5-B624-4FF1-84A6-08CD8BD32766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2E2B-62FB-46A0-BEA2-FA44A86EBC2C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"/>
          <p:cNvSpPr/>
          <p:nvPr/>
        </p:nvSpPr>
        <p:spPr>
          <a:xfrm>
            <a:off x="2843280" y="616572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EF0-43EB-4D2B-ACDA-5302C3A8EE98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68440" y="1273320"/>
            <a:ext cx="806364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00720" y="2927520"/>
            <a:ext cx="4535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6" name="Picture 29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3240000" cy="15462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1"/>
          <p:cNvSpPr/>
          <p:nvPr/>
        </p:nvSpPr>
        <p:spPr>
          <a:xfrm>
            <a:off x="36720" y="606348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Arial"/>
              </a:rPr>
              <a:t>FIDèS-</a:t>
            </a:r>
            <a:r>
              <a:rPr b="1" i="1" lang="fr-FR" sz="1000" spc="-1" strike="noStrike">
                <a:solidFill>
                  <a:srgbClr val="003366"/>
                </a:solidFill>
                <a:latin typeface="Arial"/>
              </a:rPr>
              <a:t>Conseils</a:t>
            </a:r>
            <a:r>
              <a:rPr b="1" lang="fr-FR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8" name="Picture 37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857520" cy="990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8" descr=""/>
          <p:cNvPicPr/>
          <p:nvPr/>
        </p:nvPicPr>
        <p:blipFill>
          <a:blip r:embed="rId3"/>
          <a:stretch/>
        </p:blipFill>
        <p:spPr>
          <a:xfrm>
            <a:off x="1187280" y="5013360"/>
            <a:ext cx="476280" cy="129528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2"/>
          <p:cNvSpPr/>
          <p:nvPr/>
        </p:nvSpPr>
        <p:spPr>
          <a:xfrm>
            <a:off x="4572000" y="189000"/>
            <a:ext cx="4429080" cy="4608360"/>
          </a:xfrm>
          <a:custGeom>
            <a:avLst/>
            <a:gdLst>
              <a:gd name="textAreaLeft" fmla="*/ 231480 w 4429080"/>
              <a:gd name="textAreaRight" fmla="*/ 4197600 w 4429080"/>
              <a:gd name="textAreaTop" fmla="*/ 231480 h 4608360"/>
              <a:gd name="textAreaBottom" fmla="*/ 4376880 h 4608360"/>
            </a:gdLst>
            <a:ahLst/>
            <a:rect l="textAreaLeft" t="textAreaTop" r="textAreaRight" b="textAreaBottom"/>
            <a:pathLst>
              <a:path w="21600" h="22474">
                <a:moveTo>
                  <a:pt x="3858" y="0"/>
                </a:moveTo>
                <a:arcTo wR="3858" hR="3858" stAng="16200000" swAng="-5400000"/>
                <a:lnTo>
                  <a:pt x="0" y="18616"/>
                </a:lnTo>
                <a:arcTo wR="3858" hR="3858" stAng="10800000" swAng="-5400000"/>
                <a:lnTo>
                  <a:pt x="17742" y="22474"/>
                </a:lnTo>
                <a:arcTo wR="3858" hR="3858" stAng="5400000" swAng="-5400000"/>
                <a:lnTo>
                  <a:pt x="21600" y="3858"/>
                </a:lnTo>
                <a:arcTo wR="3858" hR="385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Restitution de la démarch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Projet de Territoir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Ecole de musique Intercommunale  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</a:rPr>
              <a:t>Anduze 3 juillet 2010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E8B3-4202-4CE5-BDFC-EDF5451499BD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28000" y="837000"/>
            <a:ext cx="8070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10 orientations stratégiques dont</a:t>
            </a:r>
            <a:br>
              <a:rPr sz="3400"/>
            </a:b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5 transversale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044720" y="6094440"/>
            <a:ext cx="7848360" cy="5032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Entretenir une dynamique de participation solidaire des citoyen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042920" y="2421000"/>
            <a:ext cx="7850160" cy="7920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Garantir un urbanisme respectueux du cadre de vie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ainsi que des logements économiquement accessibl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1042920" y="3429000"/>
            <a:ext cx="7850160" cy="431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Intégrer l’environnement au cœur de toutes les démarch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1042920" y="5084640"/>
            <a:ext cx="7850160" cy="7923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Développer une vision territoriale ouverte à la coopération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pour les activités d’intérêt commun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1042920" y="4078440"/>
            <a:ext cx="7850160" cy="718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</a:rPr>
              <a:t>Intégrer la communication, l’information et la formation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</a:rPr>
              <a:t>au cœur de toutes les démarch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3 scénarii  travaillés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838080" y="2361960"/>
            <a:ext cx="80200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cénario 1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 : Renforcement des compétences  de la 2C2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cénario 2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 : Rapprochements formels ou non avec les territoires limitrophes  «logique de Vallée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cénario 3 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: fusion avec le Grand Alès (rej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70E2-7EA6-40E8-9D71-29CE95235C1A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stitution du 10 juin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125-754B-47A0-AD90-11DB6AFE3995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828000" y="837000"/>
            <a:ext cx="8070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10 orientations stratégiques dont</a:t>
            </a:r>
            <a:br>
              <a:rPr sz="3400"/>
            </a:b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5 thématique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1044720" y="5084640"/>
            <a:ext cx="7775280" cy="7207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Associer la volonté politique et la dynamique citoyenne pour garantir, construire et consolider la cohésion social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1042920" y="3284640"/>
            <a:ext cx="7777080" cy="718920"/>
          </a:xfrm>
          <a:prstGeom prst="rect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Développer une politique culturelle cohérente et ambitieuse sur le territoir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1042920" y="4149720"/>
            <a:ext cx="7777080" cy="79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Reconquérir au niveau local des activités économiques par une valorisation de l’existant et un soutien à la diversificat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1042920" y="2421000"/>
            <a:ext cx="7777080" cy="74448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Partager le développement d’une agriculture portée par une volonté citoyenne et politiqu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1042920" y="5877000"/>
            <a:ext cx="777708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Développer un tourisme ancré sur des valeurs pérennes, valorisant et préservant  l’environnement naturel et humai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2292480" y="3885120"/>
            <a:ext cx="5926680" cy="232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à toutes les personnes,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élus, techniciens, responsables     de services et d’organisations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t citoyens impliqués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ans cette démarche cooper’active</a:t>
            </a:r>
            <a:br>
              <a:rPr sz="2800"/>
            </a:b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sabelle Farg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mien Christiany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&amp; Joël Raimondi  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8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F4E-1241-42A8-A940-A9E8F4B9F65A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9" name="Picture 9" descr=""/>
          <p:cNvPicPr/>
          <p:nvPr/>
        </p:nvPicPr>
        <p:blipFill>
          <a:blip r:embed="rId1"/>
          <a:srcRect l="6261" t="4659" r="6222" b="6823"/>
          <a:stretch/>
        </p:blipFill>
        <p:spPr>
          <a:xfrm>
            <a:off x="833400" y="3938760"/>
            <a:ext cx="1074600" cy="29192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0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1368720" cy="14400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REMERCIEMENTS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92" name="Image 1" descr="arbre-de-competences"/>
          <p:cNvPicPr/>
          <p:nvPr/>
        </p:nvPicPr>
        <p:blipFill>
          <a:blip r:embed="rId3"/>
          <a:stretch/>
        </p:blipFill>
        <p:spPr>
          <a:xfrm>
            <a:off x="7213680" y="4508640"/>
            <a:ext cx="1930320" cy="2199960"/>
          </a:xfrm>
          <a:prstGeom prst="rect">
            <a:avLst/>
          </a:prstGeom>
          <a:ln w="0">
            <a:noFill/>
          </a:ln>
        </p:spPr>
      </p:pic>
      <p:sp>
        <p:nvSpPr>
          <p:cNvPr id="693" name="ZoneTexte 14"/>
          <p:cNvSpPr/>
          <p:nvPr/>
        </p:nvSpPr>
        <p:spPr>
          <a:xfrm>
            <a:off x="7056360" y="6381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Bernard MT Condensed"/>
              </a:rPr>
              <a:t>www.fidesconseils.eu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rme libre 1"/>
          <p:cNvSpPr/>
          <p:nvPr/>
        </p:nvSpPr>
        <p:spPr>
          <a:xfrm>
            <a:off x="1000080" y="1484280"/>
            <a:ext cx="7172280" cy="4383000"/>
          </a:xfrm>
          <a:custGeom>
            <a:avLst/>
            <a:gdLst/>
            <a:ahLst/>
            <a:rect l="l" t="t" r="r" b="b"/>
            <a:pathLst>
              <a:path fill="none" w="20500" h="12500">
                <a:moveTo>
                  <a:pt x="0" y="12500"/>
                </a:moveTo>
                <a:lnTo>
                  <a:pt x="20500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32400" bIns="324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Forme libre 2"/>
          <p:cNvSpPr/>
          <p:nvPr/>
        </p:nvSpPr>
        <p:spPr>
          <a:xfrm flipV="1">
            <a:off x="928800" y="5929200"/>
            <a:ext cx="7786440" cy="46080"/>
          </a:xfrm>
          <a:custGeom>
            <a:avLst/>
            <a:gdLst/>
            <a:ahLst/>
            <a:rect l="l" t="t" r="r" b="b"/>
            <a:pathLst>
              <a:path fill="none" w="24000" h="46037">
                <a:moveTo>
                  <a:pt x="0" y="0"/>
                </a:moveTo>
                <a:lnTo>
                  <a:pt x="24000" y="0"/>
                </a:lnTo>
              </a:path>
            </a:pathLst>
          </a:custGeom>
          <a:noFill/>
          <a:ln w="7200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13680" bIns="1368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Forme libre 3"/>
          <p:cNvSpPr/>
          <p:nvPr/>
        </p:nvSpPr>
        <p:spPr>
          <a:xfrm flipH="1">
            <a:off x="928080" y="490680"/>
            <a:ext cx="50760" cy="5438520"/>
          </a:xfrm>
          <a:custGeom>
            <a:avLst/>
            <a:gdLst/>
            <a:ahLst/>
            <a:rect l="l" t="t" r="r" b="b"/>
            <a:pathLst>
              <a:path fill="none" w="50800" h="15000">
                <a:moveTo>
                  <a:pt x="0" y="15000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8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32400" bIns="324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Forme libre 4"/>
          <p:cNvSpPr/>
          <p:nvPr/>
        </p:nvSpPr>
        <p:spPr>
          <a:xfrm rot="565200">
            <a:off x="1744200" y="-212760"/>
            <a:ext cx="3859200" cy="6800760"/>
          </a:xfrm>
          <a:custGeom>
            <a:avLst/>
            <a:gdLst/>
            <a:ahLst/>
            <a:rect l="l" t="t" r="r" b="b"/>
            <a:pathLst>
              <a:path w="7291" h="13475">
                <a:moveTo>
                  <a:pt x="0" y="12221"/>
                </a:moveTo>
                <a:cubicBezTo>
                  <a:pt x="6841" y="13475"/>
                  <a:pt x="7062" y="0"/>
                  <a:pt x="7291" y="418"/>
                </a:cubicBezTo>
              </a:path>
            </a:pathLst>
          </a:custGeom>
          <a:noFill/>
          <a:ln w="72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32400" bIns="324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ZoneTexte 5"/>
          <p:cNvSpPr/>
          <p:nvPr/>
        </p:nvSpPr>
        <p:spPr>
          <a:xfrm>
            <a:off x="1071720" y="5357880"/>
            <a:ext cx="12855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3366"/>
                </a:solidFill>
                <a:latin typeface="Arial Rounded MT Bold"/>
                <a:ea typeface="Lucida Sans Unicode"/>
              </a:rPr>
              <a:t>1945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ZoneTexte 6"/>
          <p:cNvSpPr/>
          <p:nvPr/>
        </p:nvSpPr>
        <p:spPr>
          <a:xfrm>
            <a:off x="4427640" y="5516640"/>
            <a:ext cx="1306440" cy="10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3366"/>
                </a:solidFill>
                <a:latin typeface="Arial Rounded MT Bold"/>
                <a:ea typeface="Lucida Sans Unicode"/>
              </a:rPr>
              <a:t>19751980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7286760" y="5357880"/>
            <a:ext cx="1306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3366"/>
                </a:solidFill>
                <a:latin typeface="Arial Rounded MT Bold"/>
                <a:ea typeface="Lucida Sans Unicode"/>
              </a:rPr>
              <a:t>2010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Forme libre 8"/>
          <p:cNvSpPr/>
          <p:nvPr/>
        </p:nvSpPr>
        <p:spPr>
          <a:xfrm>
            <a:off x="4143240" y="3357720"/>
            <a:ext cx="1428840" cy="48888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"/>
                <a:ea typeface="Lucida Sans Unicode"/>
              </a:rPr>
              <a:t>CHOC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ZoneTexte 11"/>
          <p:cNvSpPr/>
          <p:nvPr/>
        </p:nvSpPr>
        <p:spPr>
          <a:xfrm>
            <a:off x="6300720" y="620640"/>
            <a:ext cx="654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300" spc="-1" strike="noStrike">
                <a:solidFill>
                  <a:srgbClr val="993366"/>
                </a:solidFill>
                <a:latin typeface="Arial"/>
                <a:ea typeface="Lucida Sans Unicode"/>
              </a:rPr>
              <a:t>?</a:t>
            </a:r>
            <a:endParaRPr b="1" lang="en-US" sz="7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Forme libre 12"/>
          <p:cNvSpPr/>
          <p:nvPr/>
        </p:nvSpPr>
        <p:spPr>
          <a:xfrm>
            <a:off x="1547640" y="2852640"/>
            <a:ext cx="2232360" cy="738360"/>
          </a:xfrm>
          <a:prstGeom prst="pie">
            <a:avLst/>
          </a:prstGeom>
          <a:solidFill>
            <a:srgbClr val="ccffff"/>
          </a:solidFill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6200" bIns="162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30 glorieus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Recettes </a:t>
            </a:r>
            <a:r>
              <a:rPr b="1" lang="fr-FR" sz="18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&gt;</a:t>
            </a: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 Dépense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ZoneTexte 13"/>
          <p:cNvSpPr/>
          <p:nvPr/>
        </p:nvSpPr>
        <p:spPr>
          <a:xfrm>
            <a:off x="611280" y="981000"/>
            <a:ext cx="53290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</a:rPr>
              <a:t>∑ </a:t>
            </a:r>
            <a:r>
              <a:rPr b="1" lang="fr-FR" sz="2400" spc="-1" strike="noStrike">
                <a:solidFill>
                  <a:srgbClr val="000080"/>
                </a:solidFill>
                <a:latin typeface="Arial Narrow"/>
              </a:rPr>
              <a:t>Financements Publics augmentent                      </a:t>
            </a:r>
            <a:r>
              <a:rPr b="1" lang="fr-FR" sz="2000" spc="-1" strike="noStrike">
                <a:solidFill>
                  <a:srgbClr val="000080"/>
                </a:solidFill>
                <a:latin typeface="Arial Narrow"/>
              </a:rPr>
              <a:t>mais « </a:t>
            </a:r>
            <a:r>
              <a:rPr b="1" lang="fr-FR" sz="2800" spc="-1" strike="noStrike">
                <a:solidFill>
                  <a:srgbClr val="000080"/>
                </a:solidFill>
                <a:latin typeface="Arial Narrow"/>
              </a:rPr>
              <a:t>la Dette»  explose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Forme libre 18"/>
          <p:cNvSpPr/>
          <p:nvPr/>
        </p:nvSpPr>
        <p:spPr>
          <a:xfrm>
            <a:off x="6084720" y="3645000"/>
            <a:ext cx="2232360" cy="738000"/>
          </a:xfrm>
          <a:prstGeom prst="pie">
            <a:avLst/>
          </a:prstGeom>
          <a:solidFill>
            <a:srgbClr val="ff6600">
              <a:alpha val="14000"/>
            </a:srgbClr>
          </a:solidFill>
          <a:ln w="3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6200" bIns="162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30 ans de défici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Dépenses </a:t>
            </a:r>
            <a:r>
              <a:rPr b="1" lang="fr-FR" sz="18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&gt;</a:t>
            </a: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 Recett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ZoneTexte 16"/>
          <p:cNvSpPr/>
          <p:nvPr/>
        </p:nvSpPr>
        <p:spPr>
          <a:xfrm>
            <a:off x="7093080" y="476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Besoins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riorités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http://www.alternatives-economiques.fr/pics_bdd/article_options_visuel/A286017A.gif"/>
          <p:cNvPicPr/>
          <p:nvPr/>
        </p:nvPicPr>
        <p:blipFill>
          <a:blip r:embed="rId1"/>
          <a:stretch/>
        </p:blipFill>
        <p:spPr>
          <a:xfrm>
            <a:off x="755640" y="2276640"/>
            <a:ext cx="8300880" cy="4581360"/>
          </a:xfrm>
          <a:prstGeom prst="rect">
            <a:avLst/>
          </a:prstGeom>
          <a:ln w="0">
            <a:noFill/>
          </a:ln>
        </p:spPr>
      </p:pic>
      <p:sp>
        <p:nvSpPr>
          <p:cNvPr id="606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2D75-0FF7-4B62-9CF9-67F417CA18F7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827640" y="62136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66"/>
                </a:solidFill>
                <a:latin typeface="Arial Narrow"/>
              </a:rPr>
              <a:t>Dette publique 1 650 Milliards € = 84% du PIB 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ZoneTexte 8"/>
          <p:cNvSpPr/>
          <p:nvPr/>
        </p:nvSpPr>
        <p:spPr>
          <a:xfrm>
            <a:off x="1258920" y="2349360"/>
            <a:ext cx="3817800" cy="1679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Faillite en 2013 ?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Injonctions OCDE, FMI, UE…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 Narrow"/>
              </a:rPr>
              <a:t>Pour réduire la dépense publiqu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 Narrow"/>
              </a:rPr>
              <a:t>Retraite, Santé, Culture, Education…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http://www.mathcurve.com/courbes2d/gauss/gauss%202.gif"/>
          <p:cNvPicPr/>
          <p:nvPr/>
        </p:nvPicPr>
        <p:blipFill>
          <a:blip r:embed="rId1"/>
          <a:stretch/>
        </p:blipFill>
        <p:spPr>
          <a:xfrm>
            <a:off x="665280" y="2276640"/>
            <a:ext cx="8478720" cy="4581360"/>
          </a:xfrm>
          <a:prstGeom prst="rect">
            <a:avLst/>
          </a:prstGeom>
          <a:ln w="0">
            <a:noFill/>
          </a:ln>
        </p:spPr>
      </p:pic>
      <p:sp>
        <p:nvSpPr>
          <p:cNvPr id="611" name="ZoneTexte 4"/>
          <p:cNvSpPr/>
          <p:nvPr/>
        </p:nvSpPr>
        <p:spPr>
          <a:xfrm>
            <a:off x="1042920" y="6165720"/>
            <a:ext cx="7786800" cy="102348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EXCLUS:     25%           </a:t>
            </a:r>
            <a:r>
              <a:rPr b="1" lang="fr-FR" sz="3200" spc="-1" strike="noStrike">
                <a:solidFill>
                  <a:srgbClr val="004d4d"/>
                </a:solidFill>
                <a:latin typeface="Arial"/>
              </a:rPr>
              <a:t> IN       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HORS»:     25%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4d4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Connecteur droit 6"/>
          <p:cNvSpPr/>
          <p:nvPr/>
        </p:nvSpPr>
        <p:spPr>
          <a:xfrm>
            <a:off x="3924360" y="6093000"/>
            <a:ext cx="0" cy="765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Connecteur droit 8"/>
          <p:cNvSpPr/>
          <p:nvPr/>
        </p:nvSpPr>
        <p:spPr>
          <a:xfrm>
            <a:off x="5867280" y="6165720"/>
            <a:ext cx="0" cy="692280"/>
          </a:xfrm>
          <a:prstGeom prst="line">
            <a:avLst/>
          </a:prstGeom>
          <a:ln w="414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ZoneTexte 11"/>
          <p:cNvSpPr/>
          <p:nvPr/>
        </p:nvSpPr>
        <p:spPr>
          <a:xfrm>
            <a:off x="971640" y="83664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Quid des 64,09% qui ne votent pas?  </a:t>
            </a:r>
            <a:r>
              <a:rPr b="1" lang="fr-FR" sz="2600" spc="-1" strike="noStrike">
                <a:solidFill>
                  <a:srgbClr val="003366"/>
                </a:solidFill>
                <a:latin typeface="Arial"/>
              </a:rPr>
              <a:t>Exigence démocratique &amp; Nouvelle Gouvernance  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ZoneTexte 15"/>
          <p:cNvSpPr/>
          <p:nvPr/>
        </p:nvSpPr>
        <p:spPr>
          <a:xfrm>
            <a:off x="6227640" y="3068640"/>
            <a:ext cx="273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réativité  </a:t>
            </a:r>
            <a:r>
              <a:rPr b="1" i="1" lang="fr-FR" sz="2400" spc="-1" strike="noStrike">
                <a:solidFill>
                  <a:srgbClr val="003366"/>
                </a:solidFill>
                <a:latin typeface="Arial"/>
              </a:rPr>
              <a:t>Culturell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CHOISI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ZoneTexte 16"/>
          <p:cNvSpPr/>
          <p:nvPr/>
        </p:nvSpPr>
        <p:spPr>
          <a:xfrm>
            <a:off x="3995640" y="4365720"/>
            <a:ext cx="180036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Arial"/>
              </a:rPr>
              <a:t>35,91%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ZoneTexte 15"/>
          <p:cNvSpPr/>
          <p:nvPr/>
        </p:nvSpPr>
        <p:spPr>
          <a:xfrm>
            <a:off x="684360" y="3068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récarité </a:t>
            </a:r>
            <a:r>
              <a:rPr b="1" lang="fr-FR" sz="2400" spc="-1" strike="noStrike">
                <a:solidFill>
                  <a:srgbClr val="003366"/>
                </a:solidFill>
                <a:latin typeface="Arial Narrow"/>
              </a:rPr>
              <a:t>(15 Millions)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SUBI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19" name="Connecteur droit avec flèche 11"/>
          <p:cNvCxnSpPr/>
          <p:nvPr/>
        </p:nvCxnSpPr>
        <p:spPr>
          <a:xfrm flipV="1">
            <a:off x="2770560" y="6236640"/>
            <a:ext cx="28836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0" name="Connecteur droit avec flèche 15"/>
          <p:cNvCxnSpPr/>
          <p:nvPr/>
        </p:nvCxnSpPr>
        <p:spPr>
          <a:xfrm flipV="1">
            <a:off x="7524720" y="6236640"/>
            <a:ext cx="28800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1" name="Connecteur droit avec flèche 11"/>
          <p:cNvCxnSpPr/>
          <p:nvPr/>
        </p:nvCxnSpPr>
        <p:spPr>
          <a:xfrm>
            <a:off x="5292720" y="6381360"/>
            <a:ext cx="216720" cy="477000"/>
          </a:xfrm>
          <a:prstGeom prst="straightConnector1">
            <a:avLst/>
          </a:prstGeom>
          <a:ln w="38160">
            <a:solidFill>
              <a:srgbClr val="004d4d"/>
            </a:solidFill>
            <a:miter/>
            <a:tailEnd len="med" type="triangle" w="med"/>
          </a:ln>
        </p:spPr>
      </p:cxnSp>
      <p:cxnSp>
        <p:nvCxnSpPr>
          <p:cNvPr id="622" name="Connecteur droit avec flèche 11"/>
          <p:cNvCxnSpPr/>
          <p:nvPr/>
        </p:nvCxnSpPr>
        <p:spPr>
          <a:xfrm>
            <a:off x="5507640" y="6237000"/>
            <a:ext cx="216360" cy="477000"/>
          </a:xfrm>
          <a:prstGeom prst="straightConnector1">
            <a:avLst/>
          </a:prstGeom>
          <a:ln w="38160">
            <a:solidFill>
              <a:srgbClr val="004d4d"/>
            </a:solidFill>
            <a:miter/>
            <a:tailEnd len="med" type="triangle" w="med"/>
          </a:ln>
        </p:spPr>
      </p:cxnSp>
      <p:cxnSp>
        <p:nvCxnSpPr>
          <p:cNvPr id="623" name="Connecteur droit avec flèche 11"/>
          <p:cNvCxnSpPr/>
          <p:nvPr/>
        </p:nvCxnSpPr>
        <p:spPr>
          <a:xfrm flipH="1">
            <a:off x="4355640" y="6308640"/>
            <a:ext cx="145440" cy="550080"/>
          </a:xfrm>
          <a:prstGeom prst="straightConnector1">
            <a:avLst/>
          </a:prstGeom>
          <a:ln w="38160">
            <a:solidFill>
              <a:srgbClr val="004d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AE91-06B0-428F-91A1-FDC172A1A284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41680" y="722880"/>
            <a:ext cx="8222040" cy="110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e double mission «coopér’active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8080" y="2204640"/>
            <a:ext cx="8020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nstruction d’un projet de territoire partagé par le plus grand nomb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lles interactivités avec les territoires voisi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900000" y="5084640"/>
            <a:ext cx="799308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Quel territoire pour quel projet dans les 15 ans à venir 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110E-EC27-4AD9-A832-C1831095E79D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862920" y="837000"/>
            <a:ext cx="82087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marche générale : coopér’active</a:t>
            </a:r>
            <a:br>
              <a:rPr sz="3600"/>
            </a:b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vers une gouvernance sociocratiqu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31" name="Group 9"/>
          <p:cNvGrpSpPr/>
          <p:nvPr/>
        </p:nvGrpSpPr>
        <p:grpSpPr>
          <a:xfrm>
            <a:off x="2484360" y="2421000"/>
            <a:ext cx="3455640" cy="3744360"/>
            <a:chOff x="2484360" y="2421000"/>
            <a:chExt cx="3455640" cy="3744360"/>
          </a:xfrm>
        </p:grpSpPr>
        <p:sp>
          <p:nvSpPr>
            <p:cNvPr id="632" name="Gear"/>
            <p:cNvSpPr/>
            <p:nvPr/>
          </p:nvSpPr>
          <p:spPr>
            <a:xfrm>
              <a:off x="4400280" y="2421000"/>
              <a:ext cx="1539720" cy="1716840"/>
            </a:xfrm>
            <a:custGeom>
              <a:avLst/>
              <a:gdLst>
                <a:gd name="textAreaLeft" fmla="*/ 311760 w 1539720"/>
                <a:gd name="textAreaRight" fmla="*/ 1271880 w 1539720"/>
                <a:gd name="textAreaTop" fmla="*/ 314280 h 1716840"/>
                <a:gd name="textAreaBottom" fmla="*/ 1402560 h 171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AutoShape 11"/>
            <p:cNvSpPr/>
            <p:nvPr/>
          </p:nvSpPr>
          <p:spPr>
            <a:xfrm>
              <a:off x="2484360" y="3128400"/>
              <a:ext cx="1841040" cy="2052360"/>
            </a:xfrm>
            <a:custGeom>
              <a:avLst/>
              <a:gdLst>
                <a:gd name="textAreaLeft" fmla="*/ 372240 w 1841040"/>
                <a:gd name="textAreaRight" fmla="*/ 1520280 w 1841040"/>
                <a:gd name="textAreaTop" fmla="*/ 376560 h 2052360"/>
                <a:gd name="textAreaBottom" fmla="*/ 167580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AutoShape 12"/>
            <p:cNvSpPr/>
            <p:nvPr/>
          </p:nvSpPr>
          <p:spPr>
            <a:xfrm>
              <a:off x="3678480" y="3885480"/>
              <a:ext cx="2046240" cy="2279880"/>
            </a:xfrm>
            <a:custGeom>
              <a:avLst/>
              <a:gdLst>
                <a:gd name="textAreaLeft" fmla="*/ 414720 w 2046240"/>
                <a:gd name="textAreaRight" fmla="*/ 1690560 w 2046240"/>
                <a:gd name="textAreaTop" fmla="*/ 417600 h 2279880"/>
                <a:gd name="textAreaBottom" fmla="*/ 1860840 h 227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35" name="AutoShape 13"/>
          <p:cNvSpPr/>
          <p:nvPr/>
        </p:nvSpPr>
        <p:spPr>
          <a:xfrm>
            <a:off x="971640" y="2492280"/>
            <a:ext cx="2376360" cy="936720"/>
          </a:xfrm>
          <a:prstGeom prst="wedgeRoundRectCallout">
            <a:avLst>
              <a:gd name="adj1" fmla="val 52870"/>
              <a:gd name="adj2" fmla="val 82032"/>
              <a:gd name="adj3" fmla="val 16667"/>
            </a:avLst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3 Séminaire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Elus communautaire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900000" y="5589720"/>
            <a:ext cx="2808360" cy="1008000"/>
          </a:xfrm>
          <a:prstGeom prst="wedgeRoundRectCallout">
            <a:avLst>
              <a:gd name="adj1" fmla="val 70861"/>
              <a:gd name="adj2" fmla="val -62282"/>
              <a:gd name="adj3" fmla="val 16667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4 assemblées de territoi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 Narrow"/>
                <a:ea typeface="SimSun"/>
              </a:rPr>
              <a:t>Citoyens et socioprofessionnels 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force de proposi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AutoShape 15"/>
          <p:cNvSpPr/>
          <p:nvPr/>
        </p:nvSpPr>
        <p:spPr>
          <a:xfrm>
            <a:off x="6012000" y="4437000"/>
            <a:ext cx="2881080" cy="792360"/>
          </a:xfrm>
          <a:prstGeom prst="wedgeRoundRectCallout">
            <a:avLst>
              <a:gd name="adj1" fmla="val -62398"/>
              <a:gd name="adj2" fmla="val -164430"/>
              <a:gd name="adj3" fmla="val 16667"/>
            </a:avLst>
          </a:prstGeom>
          <a:solidFill>
            <a:srgbClr val="ffffff"/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Comité Technique de Suivi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Elus et Citoyens</a:t>
            </a: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 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6372360" y="2421000"/>
            <a:ext cx="2627280" cy="785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Comité de Pilotage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Interface 2C2A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35A9-DAF9-40B6-863C-6EA79C1D8E40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e démarche en 3 ét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97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REGARD : état des lieux partagé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HORIZON : vision à 15 a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CHEMIN : plan d’action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Prioriser ce qui nous rapproche (dissensus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Construire nos désaccord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Gouvernance par consentement  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Lune 40"/>
          <p:cNvGrpSpPr/>
          <p:nvPr/>
        </p:nvGrpSpPr>
        <p:grpSpPr>
          <a:xfrm>
            <a:off x="1681200" y="4220640"/>
            <a:ext cx="7463160" cy="5942880"/>
            <a:chOff x="1681200" y="4220640"/>
            <a:chExt cx="7463160" cy="5942880"/>
          </a:xfrm>
        </p:grpSpPr>
        <p:pic>
          <p:nvPicPr>
            <p:cNvPr id="645" name="Lune 40" descr=""/>
            <p:cNvPicPr/>
            <p:nvPr/>
          </p:nvPicPr>
          <p:blipFill>
            <a:blip r:embed="rId1"/>
            <a:stretch/>
          </p:blipFill>
          <p:spPr>
            <a:xfrm rot="9403200">
              <a:off x="2135160" y="5367240"/>
              <a:ext cx="6554520" cy="36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4"/>
            <p:cNvSpPr/>
            <p:nvPr/>
          </p:nvSpPr>
          <p:spPr>
            <a:xfrm rot="5512800">
              <a:off x="5291640" y="4406760"/>
              <a:ext cx="723960" cy="36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 territoire attractif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3576-34D2-4261-A5F9-66B23004257B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Arc 2"/>
          <p:cNvSpPr/>
          <p:nvPr/>
        </p:nvSpPr>
        <p:spPr>
          <a:xfrm flipH="1" rot="10146600">
            <a:off x="3389040" y="4160880"/>
            <a:ext cx="1773000" cy="1371600"/>
          </a:xfrm>
          <a:custGeom>
            <a:avLst/>
            <a:gdLst>
              <a:gd name="textAreaLeft" fmla="*/ -360 w 1773000"/>
              <a:gd name="textAreaRight" fmla="*/ 1773000 w 17730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</a:path>
              <a:path stroke="0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  <a:lnTo>
                  <a:pt x="3821" y="21600"/>
                </a:lnTo>
                <a:lnTo>
                  <a:pt x="-1" y="340"/>
                </a:lnTo>
                <a:close/>
              </a:path>
            </a:pathLst>
          </a:custGeom>
          <a:noFill/>
          <a:ln w="130320">
            <a:solidFill>
              <a:srgbClr val="e36c0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Arc 3"/>
          <p:cNvSpPr/>
          <p:nvPr/>
        </p:nvSpPr>
        <p:spPr>
          <a:xfrm flipH="1" rot="16497000">
            <a:off x="4974840" y="4010400"/>
            <a:ext cx="1494000" cy="1457280"/>
          </a:xfrm>
          <a:custGeom>
            <a:avLst/>
            <a:gdLst>
              <a:gd name="textAreaLeft" fmla="*/ 360 w 1494000"/>
              <a:gd name="textAreaRight" fmla="*/ 1494720 w 14940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fill="none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</a:path>
              <a:path stroke="0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  <a:lnTo>
                  <a:pt x="3821" y="21600"/>
                </a:lnTo>
                <a:lnTo>
                  <a:pt x="-1" y="340"/>
                </a:lnTo>
                <a:close/>
              </a:path>
            </a:pathLst>
          </a:custGeom>
          <a:noFill/>
          <a:ln w="136440">
            <a:solidFill>
              <a:srgbClr val="6224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5580000" y="3860640"/>
            <a:ext cx="2087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 Narrow"/>
              </a:rPr>
              <a:t>Proven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 Narrow"/>
              </a:rPr>
              <a:t>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6516720" y="4653000"/>
            <a:ext cx="23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Marseill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Nice - Gên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 Narrow"/>
              </a:rPr>
              <a:t>ITALI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53" name="AutoShape 6"/>
          <p:cNvCxnSpPr/>
          <p:nvPr/>
        </p:nvCxnSpPr>
        <p:spPr>
          <a:xfrm flipH="1">
            <a:off x="5074920" y="2925720"/>
            <a:ext cx="2160" cy="3240720"/>
          </a:xfrm>
          <a:prstGeom prst="straightConnector1">
            <a:avLst/>
          </a:prstGeom>
          <a:ln w="231840">
            <a:solidFill>
              <a:srgbClr val="8db3e2"/>
            </a:solidFill>
            <a:miter/>
            <a:headEnd len="med" type="stealth" w="med"/>
            <a:tailEnd len="med" type="triangle" w="med"/>
          </a:ln>
        </p:spPr>
      </p:cxnSp>
      <p:sp>
        <p:nvSpPr>
          <p:cNvPr id="654" name="Text Box 7"/>
          <p:cNvSpPr/>
          <p:nvPr/>
        </p:nvSpPr>
        <p:spPr>
          <a:xfrm>
            <a:off x="4284720" y="2349360"/>
            <a:ext cx="158256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Calibri"/>
              </a:rPr>
              <a:t>LYON…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Oval 9"/>
          <p:cNvSpPr/>
          <p:nvPr/>
        </p:nvSpPr>
        <p:spPr>
          <a:xfrm>
            <a:off x="2411280" y="3573360"/>
            <a:ext cx="2160720" cy="1584360"/>
          </a:xfrm>
          <a:prstGeom prst="ellipse">
            <a:avLst/>
          </a:prstGeom>
          <a:solidFill>
            <a:srgbClr val="c2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Text Box 10"/>
          <p:cNvSpPr/>
          <p:nvPr/>
        </p:nvSpPr>
        <p:spPr>
          <a:xfrm>
            <a:off x="2700360" y="371628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Narrow"/>
              </a:rPr>
              <a:t>Porte des Cévenn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3366"/>
                </a:solidFill>
                <a:latin typeface="Arial Narrow"/>
              </a:rPr>
              <a:t>Piémont Cévenol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288000" algn="ctr">
              <a:lnSpc>
                <a:spcPct val="100000"/>
              </a:lnSpc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ZoneTexte 31"/>
          <p:cNvSpPr/>
          <p:nvPr/>
        </p:nvSpPr>
        <p:spPr>
          <a:xfrm>
            <a:off x="826920" y="256536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10 000 habitant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1 500 000 visiteurs/a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403280" y="5300640"/>
            <a:ext cx="302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Nîmes Montpelli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       </a:t>
            </a: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Toulous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Perpignan – Barcelon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 Narrow"/>
              </a:rPr>
              <a:t>  </a:t>
            </a:r>
            <a:r>
              <a:rPr b="0" lang="fr-FR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 Narrow"/>
              </a:rPr>
              <a:t>ESPAGN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1043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1 grand objectif  adossé</a:t>
            </a:r>
            <a:br>
              <a:rPr sz="3600"/>
            </a:b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u slogan de la 2c2a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9569-F1CC-49DA-82FB-799ED848BBE9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2" name="Picture 2" descr="graphisme L"/>
          <p:cNvPicPr/>
          <p:nvPr/>
        </p:nvPicPr>
        <p:blipFill>
          <a:blip r:embed="rId1"/>
          <a:stretch/>
        </p:blipFill>
        <p:spPr>
          <a:xfrm>
            <a:off x="1042920" y="4343400"/>
            <a:ext cx="7942320" cy="1494000"/>
          </a:xfrm>
          <a:prstGeom prst="rect">
            <a:avLst/>
          </a:prstGeom>
          <a:ln w="0">
            <a:noFill/>
          </a:ln>
        </p:spPr>
      </p:pic>
      <p:grpSp>
        <p:nvGrpSpPr>
          <p:cNvPr id="663" name="Text Box 4"/>
          <p:cNvGrpSpPr/>
          <p:nvPr/>
        </p:nvGrpSpPr>
        <p:grpSpPr>
          <a:xfrm>
            <a:off x="971640" y="2492280"/>
            <a:ext cx="8020080" cy="1584000"/>
            <a:chOff x="971640" y="2492280"/>
            <a:chExt cx="8020080" cy="1584000"/>
          </a:xfrm>
        </p:grpSpPr>
        <p:pic>
          <p:nvPicPr>
            <p:cNvPr id="664" name="Text Box 4" descr=""/>
            <p:cNvPicPr/>
            <p:nvPr/>
          </p:nvPicPr>
          <p:blipFill>
            <a:blip r:embed="rId2"/>
            <a:stretch/>
          </p:blipFill>
          <p:spPr>
            <a:xfrm>
              <a:off x="971640" y="2492280"/>
              <a:ext cx="802008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6"/>
            <p:cNvSpPr/>
            <p:nvPr/>
          </p:nvSpPr>
          <p:spPr>
            <a:xfrm>
              <a:off x="999360" y="2551320"/>
              <a:ext cx="796572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66"/>
                  </a:solidFill>
                  <a:latin typeface="Arial Narrow"/>
                  <a:ea typeface="SimSun"/>
                </a:rPr>
                <a:t>CONSOLIDER UN TERRITOIRE RURAL ET CITOYEN </a:t>
              </a:r>
              <a:endParaRPr b="1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66"/>
                  </a:solidFill>
                  <a:latin typeface="Arial Narrow"/>
                  <a:ea typeface="SimSun"/>
                </a:rPr>
                <a:t>POUR RELEVER LES DEFIS ENVIRONNEMENTAUX </a:t>
              </a:r>
              <a:endParaRPr b="1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66"/>
                  </a:solidFill>
                  <a:latin typeface="Arial Narrow"/>
                  <a:ea typeface="SimSun"/>
                </a:rPr>
                <a:t>ET SOCIO-ECONOMIQUES </a:t>
              </a:r>
              <a:endParaRPr b="1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66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6:08:25Z</dcterms:created>
  <dc:creator>I. Farges</dc:creator>
  <dc:description/>
  <dc:language>en-US</dc:language>
  <cp:lastModifiedBy>Joel Raimondi</cp:lastModifiedBy>
  <dcterms:modified xsi:type="dcterms:W3CDTF">2015-12-08T09:03:05Z</dcterms:modified>
  <cp:revision>198</cp:revision>
  <dc:subject/>
  <dc:title>Présentation PowerPoint</dc:title>
</cp:coreProperties>
</file>